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B89-B1A8-4D8B-8F2E-D00C07F9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792-BB13-44AC-A642-B88B89B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1DE-63A9-409B-BF75-26586A80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B40-316B-4882-AC01-0BB9713D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C8F2-D48D-4465-B091-F2347D10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0820-349E-4D33-B653-1AC0381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1CAC-D018-4D0D-98EF-116982FF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B40C-02F1-4E47-BB2B-A7B4250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8E45-C830-43B7-AC84-D39F930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24E8-5C64-446E-A412-A95E9E7E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3323-A258-4D41-8B6F-9F3DBCB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F5B-A712-4292-AFB7-46C05E1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3745-FCDC-4246-9817-AA0F6C8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07E4-EAF8-4989-BE05-0D46E894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32A-BAEA-44E0-9913-8EA68DFA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C426-612A-47A0-A3D9-8719D3E9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4DC0-8C7D-4FBD-B503-A7E4204A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807-6F9D-4ADC-8E81-5404F745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B2D-3D27-4E95-9613-6170120A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588-CA21-4D02-9C0B-9435D972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6C8-0F27-4966-B144-F28DD380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16D-41AC-44EB-A037-428E7AA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546-4276-4BA2-A519-5993B84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565-3B35-4C8F-99F9-806E0D6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A1C-FACD-421C-BDE0-27E66F1BE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8F76-097F-489B-932F-A85DA051EB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en Bien Phu and the Geneva Acc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d of French Colonialism in Viet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rce:  The NW Travel Magaz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25px-Dienbienphu"/>
          <p:cNvPicPr/>
          <p:nvPr/>
        </p:nvPicPr>
        <p:blipFill>
          <a:blip r:embed="rId1"/>
          <a:stretch/>
        </p:blipFill>
        <p:spPr>
          <a:xfrm>
            <a:off x="1295280" y="0"/>
            <a:ext cx="64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51115988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bp_central-05_ng"/>
          <p:cNvPicPr/>
          <p:nvPr/>
        </p:nvPicPr>
        <p:blipFill>
          <a:blip r:embed="rId1"/>
          <a:stretch/>
        </p:blipFill>
        <p:spPr>
          <a:xfrm>
            <a:off x="0" y="1440"/>
            <a:ext cx="88390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t Minh forc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troyed the airstri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d resupply planes to land in areas controlled by the Viet Min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ench lost access t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od, ammunition, and vital intellig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ing the difficulties for the French were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soon rai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elting the area, conditions became intolerable and forced a surrend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age004"/>
          <p:cNvPicPr/>
          <p:nvPr/>
        </p:nvPicPr>
        <p:blipFill>
          <a:blip r:embed="rId1"/>
          <a:stretch/>
        </p:blipFill>
        <p:spPr>
          <a:xfrm>
            <a:off x="169848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4_2004_vn_3"/>
          <p:cNvPicPr/>
          <p:nvPr/>
        </p:nvPicPr>
        <p:blipFill>
          <a:blip r:embed="rId1"/>
          <a:stretch/>
        </p:blipFill>
        <p:spPr>
          <a:xfrm>
            <a:off x="15843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iet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NVAbikelogistics3"/>
          <p:cNvPicPr/>
          <p:nvPr/>
        </p:nvPicPr>
        <p:blipFill>
          <a:blip r:embed="rId1"/>
          <a:stretch/>
        </p:blipFill>
        <p:spPr>
          <a:xfrm>
            <a:off x="185256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ienbienphu2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ienbienphu3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ienbienphu1"/>
          <p:cNvPicPr/>
          <p:nvPr/>
        </p:nvPicPr>
        <p:blipFill>
          <a:blip r:embed="rId1"/>
          <a:stretch/>
        </p:blipFill>
        <p:spPr>
          <a:xfrm>
            <a:off x="2013120" y="0"/>
            <a:ext cx="483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954 May 7[1]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ienbienphu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ienbienphu01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vietnamese_victory_at_dien_bien_phu_1954"/>
          <p:cNvPicPr/>
          <p:nvPr/>
        </p:nvPicPr>
        <p:blipFill>
          <a:blip r:embed="rId1"/>
          <a:stretch/>
        </p:blipFill>
        <p:spPr>
          <a:xfrm>
            <a:off x="0" y="1260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Con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erence between many countries that agreed t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d hostilities and restore peac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n French Indochina and Vietn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duced a set of treaties known as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Acc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27, 1954, the agreement support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rritorial integrity and sovereignty of Indochin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hereby granting it independence from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and southern zones were divided at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parallel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opposing troops were to withdra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ietnamese Shuff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the cessation of hostilities, a large migration took place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50,000, mostly Catholics, moved to the sou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52,000 people went nor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Communist supporters were urged to remain in the south to vote in the coming 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de between North and 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iet Minh, awaited unification on the basis of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rnationally supervised free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 be held in July 1956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U.S. replaced the French with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go Dinh Diem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leader of South Vietn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em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fused to hold the national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noting that the State of Vietnam never signed the Geneva Accords and went about attempting to crush all remnant of communist opposi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9052-004-69271A68"/>
          <p:cNvPicPr/>
          <p:nvPr/>
        </p:nvPicPr>
        <p:blipFill>
          <a:blip r:embed="rId1"/>
          <a:stretch/>
        </p:blipFill>
        <p:spPr>
          <a:xfrm>
            <a:off x="18288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331369"/>
          <p:cNvPicPr/>
          <p:nvPr/>
        </p:nvPicPr>
        <p:blipFill>
          <a:blip r:embed="rId1"/>
          <a:stretch/>
        </p:blipFill>
        <p:spPr>
          <a:xfrm>
            <a:off x="914400" y="50760"/>
            <a:ext cx="6858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Diem’s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sence of elections led South Vietnamese who opposed Diem to form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unist National Liberation Front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tter known as th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Vietco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ngaged in guerrilla attacks against Diem’s government and desire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unification of Vietnam under Communist r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violated multiple provisions of the Accords, with both communists and anti-communists engaging i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litary buildups contrary to the acc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aptured_Viet_Cong"/>
          <p:cNvPicPr/>
          <p:nvPr/>
        </p:nvPicPr>
        <p:blipFill>
          <a:blip r:embed="rId1"/>
          <a:stretch/>
        </p:blipFill>
        <p:spPr>
          <a:xfrm>
            <a:off x="203184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79551-004-C9C552F2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xecuteVietCong-Feb1-68w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of Dienbienph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nal battle between the French forces and the North Viet Minh Communist revolutionary for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rench defeat led to the International Agreement call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March 13th, 1954, as both sides ostensibly readied for peace talks, the French selected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en Bien Ph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a village in northwestern Vietnam, near the Chinese and Laotian borders, as the place for a showdown with the Viet Minh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rench built a large airstrip with fortifications, called firebas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ops numbered between 13,000 and 16,000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_40125385_vietnam_hanoi_map20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ocationVietnamDienBienPhu"/>
          <p:cNvPicPr/>
          <p:nvPr/>
        </p:nvPicPr>
        <p:blipFill>
          <a:blip r:embed="rId1"/>
          <a:stretch/>
        </p:blipFill>
        <p:spPr>
          <a:xfrm>
            <a:off x="2560680" y="228600"/>
            <a:ext cx="398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uring the buildup, the Viet Minh had managed to transport scores of anti-aircraft guns and mortars through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eavily-forested terrai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viously dismissed by the French as “impassable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March 13, the Viet Minh conducted a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ull-scale attack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n the French gaining ground in the 10-mile-long, six-mile-wide river valle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ebases were overrun, and a constant shelling of the French ensu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BP36CR39"/>
          <p:cNvPicPr/>
          <p:nvPr/>
        </p:nvPicPr>
        <p:blipFill>
          <a:blip r:embed="rId1"/>
          <a:stretch/>
        </p:blipFill>
        <p:spPr>
          <a:xfrm>
            <a:off x="0" y="20520"/>
            <a:ext cx="89154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41:45Z</dcterms:created>
  <dc:creator>abgardner</dc:creator>
  <dc:description/>
  <dc:language>en-US</dc:language>
  <cp:lastModifiedBy>Sacerdote, Kevin R.</cp:lastModifiedBy>
  <dcterms:modified xsi:type="dcterms:W3CDTF">2014-01-24T14:30:05Z</dcterms:modified>
  <cp:revision>8</cp:revision>
  <dc:subject/>
  <dc:title>DienbienPhu and the Geneva Accords</dc:title>
</cp:coreProperties>
</file>