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DCB-33B4-48A3-9AA2-A62C2002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322-64F4-4EF4-953B-22F3221A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84C-D353-4FB4-B6F5-C411E331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7E8-D03D-436C-BDFF-BFC5136B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3B8-0685-4562-AF89-45D93EFF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6E7-9E8F-4885-AEDA-C54A28E7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24CF-13CB-4DD1-A7CA-6D2DC71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A119-B48E-4355-BE64-BE444F1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C375-0257-42E5-8866-4CDAEC44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C31-0C53-4EFC-B055-FCD633E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D10C-2408-44C8-995F-BC75E4E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5F3-D399-4066-AB0F-F0ABFD51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F31A-E6F7-41EE-9CCD-2485584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388-FF48-400A-A1B1-942164B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5BAE-F9BD-4300-A35E-4D2EDEEE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4FF-6AB8-4EB9-A61E-B6879DDC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BA6-B352-4D5C-84BC-A6ADDC20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1B4-BAEA-442C-8600-9F8E3EB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63D-65B0-472D-B408-27307DD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ECB-A826-4763-97D5-B3B24C49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AEA-1D96-48E0-BE74-17D1A22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850-E485-4E15-8770-FF8AA8C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29D-E5F7-41C2-8B2D-FE1BFB3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98E-4155-4895-8BF9-2F9F932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5C2A-0DF8-4EBE-BA57-8473DB44F3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79B-0FE4-43E2-9BCE-322289E3A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en Bien Phu and the Geneva Acc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d of French Colonialism in Viet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rce:  The NW Travel Magaz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25px-Dienbienphu"/>
          <p:cNvPicPr/>
          <p:nvPr/>
        </p:nvPicPr>
        <p:blipFill>
          <a:blip r:embed="rId1"/>
          <a:stretch/>
        </p:blipFill>
        <p:spPr>
          <a:xfrm>
            <a:off x="1295280" y="0"/>
            <a:ext cx="64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51115988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bp_central-05_ng"/>
          <p:cNvPicPr/>
          <p:nvPr/>
        </p:nvPicPr>
        <p:blipFill>
          <a:blip r:embed="rId1"/>
          <a:stretch/>
        </p:blipFill>
        <p:spPr>
          <a:xfrm>
            <a:off x="0" y="1440"/>
            <a:ext cx="88390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t Minh forc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troyed the airstri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d resupply planes to land in areas controlled by the Viet Min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ench lost access t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od, ammunition, and vital intellig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ing the difficulties for the French were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soon rai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elting the area, conditions became intolerable and forced a surrend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age004"/>
          <p:cNvPicPr/>
          <p:nvPr/>
        </p:nvPicPr>
        <p:blipFill>
          <a:blip r:embed="rId1"/>
          <a:stretch/>
        </p:blipFill>
        <p:spPr>
          <a:xfrm>
            <a:off x="169848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4_2004_vn_3"/>
          <p:cNvPicPr/>
          <p:nvPr/>
        </p:nvPicPr>
        <p:blipFill>
          <a:blip r:embed="rId1"/>
          <a:stretch/>
        </p:blipFill>
        <p:spPr>
          <a:xfrm>
            <a:off x="15843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iet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NVAbikelogistics3"/>
          <p:cNvPicPr/>
          <p:nvPr/>
        </p:nvPicPr>
        <p:blipFill>
          <a:blip r:embed="rId1"/>
          <a:stretch/>
        </p:blipFill>
        <p:spPr>
          <a:xfrm>
            <a:off x="185256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ienbienphu2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ienbienphu3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ienbienphu1"/>
          <p:cNvPicPr/>
          <p:nvPr/>
        </p:nvPicPr>
        <p:blipFill>
          <a:blip r:embed="rId1"/>
          <a:stretch/>
        </p:blipFill>
        <p:spPr>
          <a:xfrm>
            <a:off x="2013120" y="0"/>
            <a:ext cx="483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954 May 7[1]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ienbienphu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ienbienphu01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vietnamese_victory_at_dien_bien_phu_1954"/>
          <p:cNvPicPr/>
          <p:nvPr/>
        </p:nvPicPr>
        <p:blipFill>
          <a:blip r:embed="rId1"/>
          <a:stretch/>
        </p:blipFill>
        <p:spPr>
          <a:xfrm>
            <a:off x="0" y="1260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Con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erence between many countries that agreed t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d hostilities and restore peac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n French Indochina and Vietn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duced a set of treaties known as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Acc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27, 1954, the agreement support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rritorial integrity and sovereignty of Indochin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hereby granting it independence from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and southern zones were divided at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parallel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opposing troops were to withdra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ietnamese Shuff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the cessation of hostilities, a large migration took place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50,000, mostly Catholics, moved to the sou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52,000 people went nor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Communist supporters were urged to remain in the south to vote in the coming 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de between North and 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iet Minh, awaited unification on the basis of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rnationally supervised free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 be held in July 1956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U.S. replaced the French with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go Dinh Diem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leader of South Vietn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em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fused to hold the national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noting that the State of Vietnam never signed the Geneva Accords and went about attempting to crush all remnant of communist opposi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9052-004-69271A68"/>
          <p:cNvPicPr/>
          <p:nvPr/>
        </p:nvPicPr>
        <p:blipFill>
          <a:blip r:embed="rId1"/>
          <a:stretch/>
        </p:blipFill>
        <p:spPr>
          <a:xfrm>
            <a:off x="18288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331369"/>
          <p:cNvPicPr/>
          <p:nvPr/>
        </p:nvPicPr>
        <p:blipFill>
          <a:blip r:embed="rId1"/>
          <a:stretch/>
        </p:blipFill>
        <p:spPr>
          <a:xfrm>
            <a:off x="914400" y="50760"/>
            <a:ext cx="6858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Diem’s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sence of elections led South Vietnamese who opposed Diem to form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unist National Liberation Front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tter known as th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Vietco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ngaged in guerrilla attacks against Diem’s government and desire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unification of Vietnam under Communist r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violated multiple provisions of the Accords, with both communists and anti-communists engaging i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litary buildups contrary to the acc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aptured_Viet_Cong"/>
          <p:cNvPicPr/>
          <p:nvPr/>
        </p:nvPicPr>
        <p:blipFill>
          <a:blip r:embed="rId1"/>
          <a:stretch/>
        </p:blipFill>
        <p:spPr>
          <a:xfrm>
            <a:off x="203184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79551-004-C9C552F2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xecuteVietCong-Feb1-68w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of Dienbienph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nal battle between the French forces and the North Viet Minh Communist revolutionary for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rench defeat led to the International Agreement call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March 13th, 1954, as both sides ostensibly readied for peace talks, the French selected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en Bien Ph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a village in northwestern Vietnam, near the Chinese and Laotian borders, as the place for a showdown with the Viet Minh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rench built a large airstrip with fortifications, called firebas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ops numbered between 13,000 and 16,000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_40125385_vietnam_hanoi_map20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ocationVietnamDienBienPhu"/>
          <p:cNvPicPr/>
          <p:nvPr/>
        </p:nvPicPr>
        <p:blipFill>
          <a:blip r:embed="rId1"/>
          <a:stretch/>
        </p:blipFill>
        <p:spPr>
          <a:xfrm>
            <a:off x="2560680" y="228600"/>
            <a:ext cx="398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uring the buildup, the Viet Minh had managed to transport scores of anti-aircraft guns and mortars through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eavily-forested terrai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viously dismissed by the French as “impassable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March 13, the Viet Minh conducted a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ull-scale attack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n the French gaining ground in the 10-mile-long, six-mile-wide river valle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ebases were overrun, and a constant shelling of the French ensu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BP36CR39"/>
          <p:cNvPicPr/>
          <p:nvPr/>
        </p:nvPicPr>
        <p:blipFill>
          <a:blip r:embed="rId1"/>
          <a:stretch/>
        </p:blipFill>
        <p:spPr>
          <a:xfrm>
            <a:off x="0" y="20520"/>
            <a:ext cx="89154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41:45Z</dcterms:created>
  <dc:creator>abgardner</dc:creator>
  <dc:description/>
  <dc:language>en-US</dc:language>
  <cp:lastModifiedBy>Sacerdote, Kevin R.</cp:lastModifiedBy>
  <dcterms:modified xsi:type="dcterms:W3CDTF">2014-01-24T14:30:05Z</dcterms:modified>
  <cp:revision>8</cp:revision>
  <dc:subject/>
  <dc:title>DienbienPhu and the Geneva Accords</dc:title>
</cp:coreProperties>
</file>