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4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media/image17.jpeg" ContentType="image/jpeg"/>
  <Override PartName="/ppt/media/image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A30A6-827F-4CFC-8A79-F444505C2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71C5A-5652-4ADE-9B27-72DD256F7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55EBB-1B88-4487-88C2-9C7D630EE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7E9D6-5A49-44CC-8380-94660D2EE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FC33C-9B66-4438-904D-CC0B741CB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BC425-4F88-4857-84D6-6AA121435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6C99A-192F-47D4-AFE0-8E0253722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84C81-2789-42FC-8397-D1D75CAD0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084F7-A1A8-4A72-B9B6-FEBD19DE4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012CB-BDB7-46C5-8B12-3574BC793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1F8B7-FAE4-4894-9D91-8ACA90012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73ED8-4A32-4DD0-9306-3DDEFEA31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B2DE9-8583-4886-A763-03845CCA9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DD6FE-046B-47D6-82FA-456CE4894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94F23-7B8E-43A7-9F83-E4F7C3854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77356-03D7-4B72-BA50-E58A40E08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CFC46-204A-4363-A037-B4D6823C4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43B3C-64B2-475D-8608-F3B1DB49B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37FA8-9AEB-4B90-9DD8-83EB824D9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3A20C-9982-42A8-971B-5587507F1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BBC10-9C9F-4F7F-8D3C-A66509825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9C321-8055-4716-935E-59B11F8D2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DE832-D364-41BB-9727-A13ECACF3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DB0E9-DC36-4EF1-8082-ED2B6DEC6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1" name="Rectangle 3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C25CB-D1B9-4413-ADCE-F120A37B733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46" name="Rectangle 3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Line 5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CBFAA-9EB8-4C53-ACD1-47A0093BD1D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Dien Bien Phu and the Geneva Accords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187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e end of French Colonialism in Vietnam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urce:  The NW Travel Magazin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5" descr="325px-Dienbienphu"/>
          <p:cNvPicPr/>
          <p:nvPr/>
        </p:nvPicPr>
        <p:blipFill>
          <a:blip r:embed="rId1"/>
          <a:stretch/>
        </p:blipFill>
        <p:spPr>
          <a:xfrm>
            <a:off x="1295280" y="0"/>
            <a:ext cx="6423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5" descr="51115988"/>
          <p:cNvPicPr/>
          <p:nvPr/>
        </p:nvPicPr>
        <p:blipFill>
          <a:blip r:embed="rId1"/>
          <a:stretch/>
        </p:blipFill>
        <p:spPr>
          <a:xfrm>
            <a:off x="0" y="31680"/>
            <a:ext cx="8915400" cy="649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5" descr="dbp_central-05_ng"/>
          <p:cNvPicPr/>
          <p:nvPr/>
        </p:nvPicPr>
        <p:blipFill>
          <a:blip r:embed="rId1"/>
          <a:stretch/>
        </p:blipFill>
        <p:spPr>
          <a:xfrm>
            <a:off x="0" y="1440"/>
            <a:ext cx="8839080" cy="662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Happened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Viet Minh forces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destroyed the airstrip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forced resupply planes to land in areas controlled by the Viet Minh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e French lost access to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food, ammunition, and vital intelligenc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ompounding the difficulties for the French were the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monsoon rains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pelting the area, conditions became intolerable and forced a surrender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5" descr="image004"/>
          <p:cNvPicPr/>
          <p:nvPr/>
        </p:nvPicPr>
        <p:blipFill>
          <a:blip r:embed="rId1"/>
          <a:stretch/>
        </p:blipFill>
        <p:spPr>
          <a:xfrm>
            <a:off x="1698480" y="0"/>
            <a:ext cx="5415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5" descr="04_2004_vn_3"/>
          <p:cNvPicPr/>
          <p:nvPr/>
        </p:nvPicPr>
        <p:blipFill>
          <a:blip r:embed="rId1"/>
          <a:stretch/>
        </p:blipFill>
        <p:spPr>
          <a:xfrm>
            <a:off x="1584360" y="0"/>
            <a:ext cx="5626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5" descr="viet"/>
          <p:cNvPicPr/>
          <p:nvPr/>
        </p:nvPicPr>
        <p:blipFill>
          <a:blip r:embed="rId1"/>
          <a:stretch/>
        </p:blipFill>
        <p:spPr>
          <a:xfrm>
            <a:off x="0" y="210960"/>
            <a:ext cx="9144000" cy="596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5" descr="NVAbikelogistics3"/>
          <p:cNvPicPr/>
          <p:nvPr/>
        </p:nvPicPr>
        <p:blipFill>
          <a:blip r:embed="rId1"/>
          <a:stretch/>
        </p:blipFill>
        <p:spPr>
          <a:xfrm>
            <a:off x="1852560" y="0"/>
            <a:ext cx="5127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5" descr="dienbienphu2"/>
          <p:cNvPicPr/>
          <p:nvPr/>
        </p:nvPicPr>
        <p:blipFill>
          <a:blip r:embed="rId1"/>
          <a:stretch/>
        </p:blipFill>
        <p:spPr>
          <a:xfrm>
            <a:off x="0" y="266760"/>
            <a:ext cx="9144000" cy="58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5" descr="Dienbienphu3"/>
          <p:cNvPicPr/>
          <p:nvPr/>
        </p:nvPicPr>
        <p:blipFill>
          <a:blip r:embed="rId1"/>
          <a:stretch/>
        </p:blipFill>
        <p:spPr>
          <a:xfrm>
            <a:off x="0" y="298440"/>
            <a:ext cx="914400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5" descr="dienbienphu1"/>
          <p:cNvPicPr/>
          <p:nvPr/>
        </p:nvPicPr>
        <p:blipFill>
          <a:blip r:embed="rId1"/>
          <a:stretch/>
        </p:blipFill>
        <p:spPr>
          <a:xfrm>
            <a:off x="2013120" y="0"/>
            <a:ext cx="4830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1954 May 7[1]"/>
          <p:cNvPicPr/>
          <p:nvPr/>
        </p:nvPicPr>
        <p:blipFill>
          <a:blip r:embed="rId1"/>
          <a:stretch/>
        </p:blipFill>
        <p:spPr>
          <a:xfrm>
            <a:off x="0" y="330120"/>
            <a:ext cx="9144000" cy="572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5" descr="dienbienphu"/>
          <p:cNvPicPr/>
          <p:nvPr/>
        </p:nvPicPr>
        <p:blipFill>
          <a:blip r:embed="rId1"/>
          <a:stretch/>
        </p:blipFill>
        <p:spPr>
          <a:xfrm>
            <a:off x="0" y="334800"/>
            <a:ext cx="9144000" cy="57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" descr="dienbienphu01"/>
          <p:cNvPicPr/>
          <p:nvPr/>
        </p:nvPicPr>
        <p:blipFill>
          <a:blip r:embed="rId1"/>
          <a:stretch/>
        </p:blipFill>
        <p:spPr>
          <a:xfrm>
            <a:off x="0" y="396720"/>
            <a:ext cx="9144000" cy="559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5" descr="vietnamese_victory_at_dien_bien_phu_1954"/>
          <p:cNvPicPr/>
          <p:nvPr/>
        </p:nvPicPr>
        <p:blipFill>
          <a:blip r:embed="rId1"/>
          <a:stretch/>
        </p:blipFill>
        <p:spPr>
          <a:xfrm>
            <a:off x="0" y="12600"/>
            <a:ext cx="8915400" cy="65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Geneva Conferenc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ference between many countries that agreed to 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end hostilities and restore peac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in French Indochina and Vietnam.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produced a set of treaties known as the 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Geneva Accords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Geneva Accord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On April 27, 1954, the agreement supported the 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territorial integrity and sovereignty of Indochina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thereby granting it independence from France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orthern and southern zones were divided at the 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17</a:t>
            </a:r>
            <a:r>
              <a:rPr b="1" lang="en-US" sz="31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 parallel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and opposing troops were to withdraw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5" descr="60"/>
          <p:cNvPicPr/>
          <p:nvPr/>
        </p:nvPicPr>
        <p:blipFill>
          <a:blip r:embed="rId1"/>
          <a:stretch/>
        </p:blipFill>
        <p:spPr>
          <a:xfrm>
            <a:off x="380880" y="0"/>
            <a:ext cx="8229600" cy="679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Vietnamese Shuffl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91440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fter the cessation of hostilities, a large migration took place. 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450,000, mostly Catholics, moved to the south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52,000 people went north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. Communist supporters were urged to remain in the south to vote in the coming elections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Divide between North and South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91440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e Viet Minh, awaited unification on the basis of 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internationally supervised free elections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to be held in July 1956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e U.S. replaced the French with 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Ngo Dinh Diem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, leader of South Vietnam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Diem 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refused to hold the national elections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, noting that the State of Vietnam never signed the Geneva Accords and went about attempting to crush all remnant of communist opposition.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5" descr="19052-004-69271A68"/>
          <p:cNvPicPr/>
          <p:nvPr/>
        </p:nvPicPr>
        <p:blipFill>
          <a:blip r:embed="rId1"/>
          <a:stretch/>
        </p:blipFill>
        <p:spPr>
          <a:xfrm>
            <a:off x="1828800" y="0"/>
            <a:ext cx="534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5" descr="3331369"/>
          <p:cNvPicPr/>
          <p:nvPr/>
        </p:nvPicPr>
        <p:blipFill>
          <a:blip r:embed="rId1"/>
          <a:stretch/>
        </p:blipFill>
        <p:spPr>
          <a:xfrm>
            <a:off x="914400" y="50760"/>
            <a:ext cx="6858000" cy="676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Results of Diem’s Decision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e absence of elections led South Vietnamese who opposed Diem to form the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ommunist National Liberation Front,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better known as the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 Vietcong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ey engaged in guerrilla attacks against Diem’s government and desired the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reunification of Vietnam under Communist rule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Both sides violated multiple provisions of the Accords, with both communists and anti-communists engaging in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military buildups contrary to the accords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5" descr="Captured_Viet_Cong"/>
          <p:cNvPicPr/>
          <p:nvPr/>
        </p:nvPicPr>
        <p:blipFill>
          <a:blip r:embed="rId1"/>
          <a:stretch/>
        </p:blipFill>
        <p:spPr>
          <a:xfrm>
            <a:off x="2031840" y="0"/>
            <a:ext cx="4792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5" descr="79551-004-C9C552F2"/>
          <p:cNvPicPr/>
          <p:nvPr/>
        </p:nvPicPr>
        <p:blipFill>
          <a:blip r:embed="rId1"/>
          <a:stretch/>
        </p:blipFill>
        <p:spPr>
          <a:xfrm>
            <a:off x="0" y="185760"/>
            <a:ext cx="9144000" cy="60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5" descr="ExecuteVietCong-Feb1-68w"/>
          <p:cNvPicPr/>
          <p:nvPr/>
        </p:nvPicPr>
        <p:blipFill>
          <a:blip r:embed="rId1"/>
          <a:stretch/>
        </p:blipFill>
        <p:spPr>
          <a:xfrm>
            <a:off x="228600" y="0"/>
            <a:ext cx="8686800" cy="677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Battle of Dienbienphu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e final battle between the French forces and the North Viet Minh Communist revolutionary forces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e French defeat led to the International Agreement called the 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Geneva Accord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Happened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On March 13th, 1954, as both sides ostensibly readied for peace talks, the French selected </a:t>
            </a: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Dien Bien Phu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, a village in northwestern Vietnam, near the Chinese and Laotian borders, as the place for a showdown with the Viet Minh.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The French built a large airstrip with fortifications, called firebases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Troops numbered between 13,000 and 16,000.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5" descr="_40125385_vietnam_hanoi_map203"/>
          <p:cNvPicPr/>
          <p:nvPr/>
        </p:nvPicPr>
        <p:blipFill>
          <a:blip r:embed="rId1"/>
          <a:stretch/>
        </p:blipFill>
        <p:spPr>
          <a:xfrm>
            <a:off x="228600" y="0"/>
            <a:ext cx="8915400" cy="66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5" descr="LocationVietnamDienBienPhu"/>
          <p:cNvPicPr/>
          <p:nvPr/>
        </p:nvPicPr>
        <p:blipFill>
          <a:blip r:embed="rId1"/>
          <a:stretch/>
        </p:blipFill>
        <p:spPr>
          <a:xfrm>
            <a:off x="2560680" y="228600"/>
            <a:ext cx="398124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Happened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During the buildup, the Viet Minh had managed to transport scores of anti-aircraft guns and mortars through </a:t>
            </a: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heavily-forested terrain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 previously dismissed by the French as “impassable.”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rom March 13, the Viet Minh conducted a </a:t>
            </a: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full-scale attack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 on the French gaining ground in the 10-mile-long, six-mile-wide river valley.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irebases were overrun, and a constant shelling of the French ensued.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5" descr="DBP36CR39"/>
          <p:cNvPicPr/>
          <p:nvPr/>
        </p:nvPicPr>
        <p:blipFill>
          <a:blip r:embed="rId1"/>
          <a:stretch/>
        </p:blipFill>
        <p:spPr>
          <a:xfrm>
            <a:off x="0" y="20520"/>
            <a:ext cx="8915400" cy="65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4T20:41:45Z</dcterms:created>
  <dc:creator>abgardner</dc:creator>
  <dc:description/>
  <dc:language>en-US</dc:language>
  <cp:lastModifiedBy>Sacerdote, Kevin R.</cp:lastModifiedBy>
  <dcterms:modified xsi:type="dcterms:W3CDTF">2014-01-24T14:30:05Z</dcterms:modified>
  <cp:revision>8</cp:revision>
  <dc:subject/>
  <dc:title>DienbienPhu and the Geneva Accords</dc:title>
</cp:coreProperties>
</file>