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8D6A-582B-421F-9C10-EF1C3D3C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CBC4-56E2-4C09-994D-D1AC3B4C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7A8C-42A5-482F-A497-4864781D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012D-EC57-4649-B79E-BFA37BAA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4A30-FE78-4087-98E3-0FBCA6F9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5285-2052-4A97-93E8-8DD2BCE3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6CEF-012D-465B-8C84-EC6CF95F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3B1A-B79A-4F70-88EA-4AFB07FF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8E03-2E02-4D7B-81DC-1ACB8E6D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9F6C-6A5B-415F-96D7-B21A168E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6415-6871-425D-80D2-52CB54E8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995A-74B6-4351-BB38-9167F366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6697-F45C-4A4B-A277-A799699E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3385-8130-4C9F-AB33-B650FAB6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ACD3-F73F-498F-AF06-625A053C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2793-8263-4D8F-A99F-68249FF0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4946-7724-4A41-A5B8-2C63477F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16E7-4496-4CD5-907F-C5C33679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E32-A0A5-45CA-AE37-55E41549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DBFF-44F8-4358-9CF7-B24BCB06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8088-1D4D-4FF8-A10F-BFA826B5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25A8-2726-4C80-81A4-EEFE0FA6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1F31-9A81-46E5-88FC-7D374A10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D8C6-5F89-4FE0-A0BB-CFB6CE63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F2E6-1DCD-496D-8241-2902873B13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00B8-B767-4FAE-8340-27DC0C3224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Dien Bien Phu and the Geneva Accord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end of French Colonialism in Vietn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urce:  The NW Travel Magaz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325px-Dienbienphu"/>
          <p:cNvPicPr/>
          <p:nvPr/>
        </p:nvPicPr>
        <p:blipFill>
          <a:blip r:embed="rId1"/>
          <a:stretch/>
        </p:blipFill>
        <p:spPr>
          <a:xfrm>
            <a:off x="1295280" y="0"/>
            <a:ext cx="642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51115988"/>
          <p:cNvPicPr/>
          <p:nvPr/>
        </p:nvPicPr>
        <p:blipFill>
          <a:blip r:embed="rId1"/>
          <a:stretch/>
        </p:blipFill>
        <p:spPr>
          <a:xfrm>
            <a:off x="0" y="31680"/>
            <a:ext cx="8915400" cy="64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dbp_central-05_ng"/>
          <p:cNvPicPr/>
          <p:nvPr/>
        </p:nvPicPr>
        <p:blipFill>
          <a:blip r:embed="rId1"/>
          <a:stretch/>
        </p:blipFill>
        <p:spPr>
          <a:xfrm>
            <a:off x="0" y="1440"/>
            <a:ext cx="8839080" cy="66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Happen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et Minh force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stroyed the airstrip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ced resupply planes to land in areas controlled by the Viet Minh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French lost access to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od, ammunition, and vital intellige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ounding the difficulties for the French were th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nsoon rain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pelting the area, conditions became intolerable and forced a surrend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image004"/>
          <p:cNvPicPr/>
          <p:nvPr/>
        </p:nvPicPr>
        <p:blipFill>
          <a:blip r:embed="rId1"/>
          <a:stretch/>
        </p:blipFill>
        <p:spPr>
          <a:xfrm>
            <a:off x="1698480" y="0"/>
            <a:ext cx="541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04_2004_vn_3"/>
          <p:cNvPicPr/>
          <p:nvPr/>
        </p:nvPicPr>
        <p:blipFill>
          <a:blip r:embed="rId1"/>
          <a:stretch/>
        </p:blipFill>
        <p:spPr>
          <a:xfrm>
            <a:off x="1584360" y="0"/>
            <a:ext cx="562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viet"/>
          <p:cNvPicPr/>
          <p:nvPr/>
        </p:nvPicPr>
        <p:blipFill>
          <a:blip r:embed="rId1"/>
          <a:stretch/>
        </p:blipFill>
        <p:spPr>
          <a:xfrm>
            <a:off x="0" y="210960"/>
            <a:ext cx="9144000" cy="59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NVAbikelogistics3"/>
          <p:cNvPicPr/>
          <p:nvPr/>
        </p:nvPicPr>
        <p:blipFill>
          <a:blip r:embed="rId1"/>
          <a:stretch/>
        </p:blipFill>
        <p:spPr>
          <a:xfrm>
            <a:off x="1852560" y="0"/>
            <a:ext cx="512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dienbienphu2"/>
          <p:cNvPicPr/>
          <p:nvPr/>
        </p:nvPicPr>
        <p:blipFill>
          <a:blip r:embed="rId1"/>
          <a:stretch/>
        </p:blipFill>
        <p:spPr>
          <a:xfrm>
            <a:off x="0" y="266760"/>
            <a:ext cx="9144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Dienbienphu3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dienbienphu1"/>
          <p:cNvPicPr/>
          <p:nvPr/>
        </p:nvPicPr>
        <p:blipFill>
          <a:blip r:embed="rId1"/>
          <a:stretch/>
        </p:blipFill>
        <p:spPr>
          <a:xfrm>
            <a:off x="2013120" y="0"/>
            <a:ext cx="483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1954 May 7[1]"/>
          <p:cNvPicPr/>
          <p:nvPr/>
        </p:nvPicPr>
        <p:blipFill>
          <a:blip r:embed="rId1"/>
          <a:stretch/>
        </p:blipFill>
        <p:spPr>
          <a:xfrm>
            <a:off x="0" y="330120"/>
            <a:ext cx="9144000" cy="57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dienbienphu"/>
          <p:cNvPicPr/>
          <p:nvPr/>
        </p:nvPicPr>
        <p:blipFill>
          <a:blip r:embed="rId1"/>
          <a:stretch/>
        </p:blipFill>
        <p:spPr>
          <a:xfrm>
            <a:off x="0" y="334800"/>
            <a:ext cx="914400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dienbienphu01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55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vietnamese_victory_at_dien_bien_phu_1954"/>
          <p:cNvPicPr/>
          <p:nvPr/>
        </p:nvPicPr>
        <p:blipFill>
          <a:blip r:embed="rId1"/>
          <a:stretch/>
        </p:blipFill>
        <p:spPr>
          <a:xfrm>
            <a:off x="0" y="12600"/>
            <a:ext cx="89154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Geneva Confer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ference between many countries that agreed t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nd hostilities and restore peac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in French Indochina and Vietnam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oduced a set of treaties known as the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eneva Accord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Geneva Acc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n April 27, 1954, the agreement supported the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erritorial integrity and sovereignty of Indochina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thereby granting it independence from France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rthern and southern zones were divided at the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en-US" sz="3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parallel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and opposing troops were to withdraw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60"/>
          <p:cNvPicPr/>
          <p:nvPr/>
        </p:nvPicPr>
        <p:blipFill>
          <a:blip r:embed="rId1"/>
          <a:stretch/>
        </p:blipFill>
        <p:spPr>
          <a:xfrm>
            <a:off x="380880" y="0"/>
            <a:ext cx="82296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Vietnamese Shuff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fter the cessation of hostilities, a large migration took place.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50,000, mostly Catholics, moved to the south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52,000 people went north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. Communist supporters were urged to remain in the south to vote in the coming election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ivide between North and Sou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Viet Minh, awaited unification on the basis of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ternationally supervised free election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to be held in July 1956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U.S. replaced the French with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Ngo Dinh Diem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, leader of South Vietna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em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efused to hold the national election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, noting that the State of Vietnam never signed the Geneva Accords and went about attempting to crush all remnant of communist opposition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19052-004-69271A68"/>
          <p:cNvPicPr/>
          <p:nvPr/>
        </p:nvPicPr>
        <p:blipFill>
          <a:blip r:embed="rId1"/>
          <a:stretch/>
        </p:blipFill>
        <p:spPr>
          <a:xfrm>
            <a:off x="182880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3331369"/>
          <p:cNvPicPr/>
          <p:nvPr/>
        </p:nvPicPr>
        <p:blipFill>
          <a:blip r:embed="rId1"/>
          <a:stretch/>
        </p:blipFill>
        <p:spPr>
          <a:xfrm>
            <a:off x="914400" y="50760"/>
            <a:ext cx="6858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 of Diem’s Deci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absence of elections led South Vietnamese who opposed Diem to form th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munist National Liberation Front,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better known as the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Vietcong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y engaged in guerrilla attacks against Diem’s government and desired th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unification of Vietnam under Communist rul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oth sides violated multiple provisions of the Accords, with both communists and anti-communists engaging in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litary buildups contrary to the accord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Captured_Viet_Cong"/>
          <p:cNvPicPr/>
          <p:nvPr/>
        </p:nvPicPr>
        <p:blipFill>
          <a:blip r:embed="rId1"/>
          <a:stretch/>
        </p:blipFill>
        <p:spPr>
          <a:xfrm>
            <a:off x="2031840" y="0"/>
            <a:ext cx="479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79551-004-C9C552F2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ExecuteVietCong-Feb1-68w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7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attle of Dienbienph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final battle between the French forces and the North Viet Minh Communist revolutionary forc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French defeat led to the International Agreement called the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eneva Accor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Happen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n March 13th, 1954, as both sides ostensibly readied for peace talks, the French selected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Dien Bien Phu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, a village in northwestern Vietnam, near the Chinese and Laotian borders, as the place for a showdown with the Viet Minh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French built a large airstrip with fortifications, called firebas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oops numbered between 13,000 and 16,000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_40125385_vietnam_hanoi_map203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LocationVietnamDienBienPhu"/>
          <p:cNvPicPr/>
          <p:nvPr/>
        </p:nvPicPr>
        <p:blipFill>
          <a:blip r:embed="rId1"/>
          <a:stretch/>
        </p:blipFill>
        <p:spPr>
          <a:xfrm>
            <a:off x="2560680" y="228600"/>
            <a:ext cx="39812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Happen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uring the buildup, the Viet Minh had managed to transport scores of anti-aircraft guns and mortars through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heavily-forested terrai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previously dismissed by the French as “impassable.”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rom March 13, the Viet Minh conducted a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full-scale attack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on the French gaining ground in the 10-mile-long, six-mile-wide river valley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rebases were overrun, and a constant shelling of the French ensued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DBP36CR39"/>
          <p:cNvPicPr/>
          <p:nvPr/>
        </p:nvPicPr>
        <p:blipFill>
          <a:blip r:embed="rId1"/>
          <a:stretch/>
        </p:blipFill>
        <p:spPr>
          <a:xfrm>
            <a:off x="0" y="20520"/>
            <a:ext cx="891540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20:41:45Z</dcterms:created>
  <dc:creator>abgardner</dc:creator>
  <dc:description/>
  <dc:language>en-US</dc:language>
  <cp:lastModifiedBy>Sacerdote, Kevin R.</cp:lastModifiedBy>
  <dcterms:modified xsi:type="dcterms:W3CDTF">2014-01-24T14:30:05Z</dcterms:modified>
  <cp:revision>8</cp:revision>
  <dc:subject/>
  <dc:title>DienbienPhu and the Geneva Accords</dc:title>
</cp:coreProperties>
</file>