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0BE4-503B-45D6-B260-985B6E96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8D33-DF41-4283-BCCC-B5C3B6870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A5F-4648-4E63-8F37-E5465A15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877F-66F9-4732-922C-FEA9D6F3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488-BDED-4A7A-BBDD-30A66743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C498-A261-43C2-B594-03BB1443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F57F-4C41-46E8-8852-E06B3712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938-332A-4307-A076-CDF556696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7B4-6144-4E2C-A4DE-F696117AB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E52A-D1A4-4FF8-8029-1FF01876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AAAA-4D72-4E2A-A1C4-CDEE7F2C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A16-35E5-486D-B7D0-06CE9360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6D6-B3B8-458C-A3BB-834D5A7D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687-8D8D-4594-ADCC-60920C20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003-D4F7-44AC-AB07-4E442596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9BCD-19A6-46A0-AD3F-B640E304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788-6846-443B-996D-E1AB0DD3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BF8-10A8-4E67-AD92-E57B43F1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5331-49BD-47BB-83CD-6E3D3BE3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6DA-6973-40E7-BBA9-442A8609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8CA-9628-4A5C-A8EC-6B2271BF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383-03DD-4FA9-80B8-34EC18913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5500-A8D6-41F4-855D-447BD2F6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2E8-6247-4252-A594-4E9F811C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0F88-5F26-466D-814F-EEAE48D37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859C-83C0-42E0-8989-569FC98E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083-30F8-44E6-86BF-9A915853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381-3AEF-4657-A2E0-7A499450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7999-76FF-4CEA-8BCB-13DFE5D1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CF5-94D6-4EA1-A4D7-DEF247718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098-B52B-454D-9A03-DAF98EBD3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CAA-6204-4729-8A54-96042650E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4A5-060D-4EA3-AA68-394A9BBD7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0AB-C28D-4930-B04C-CB30111B3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E5C6-019A-4BE9-A7B6-60B6C49F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52AA-C6DC-4378-A91E-65E5BBDB6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B39-4F5C-4E8E-8DD0-21F93AF9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37A-DFA0-401B-AD39-5428ADE2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7">
            <a:hlinkClick r:id="" action="ppaction://hlinkshowjump?jump=firstslide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>
            <a:hlinkClick r:id="" action="ppaction://hlinkshowjump?jump=endshow"/>
          </p:cNvPr>
          <p:cNvSpPr/>
          <p:nvPr/>
        </p:nvSpPr>
        <p:spPr>
          <a:xfrm>
            <a:off x="76201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37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23.xm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04920" y="68580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pter 19 – The Vietnam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66680" y="135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c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066680" y="1733400"/>
            <a:ext cx="38102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The War 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U.S. Support of the War at Home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1968: A Turn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The War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762120" y="2114640"/>
            <a:ext cx="15228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7"/>
          <a:stretch/>
        </p:blipFill>
        <p:spPr>
          <a:xfrm>
            <a:off x="762120" y="25765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4800600" y="135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800600" y="1733400"/>
            <a:ext cx="4038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44197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800600" y="4308480"/>
            <a:ext cx="40384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9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0" action="ppaction://hlinksldjump"/>
              </a:rPr>
              <a:t>th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1" action="ppaction://hlinksldjump"/>
              </a:rPr>
              <a:t> Calvary in Viet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12" action="ppaction://hlinksldjump"/>
              </a:rPr>
              <a:t>U.S. Forces in Vietnam, 1965 – 19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et Offensive Casu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Political Cartoon: Vietnam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762120" y="4387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uick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1066680" y="47433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auses of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sual Summary: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44956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4800600" y="281952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Indochina, 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Vietnam Conflict, 1964 –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lection of 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9" descr=""/>
          <p:cNvPicPr/>
          <p:nvPr/>
        </p:nvPicPr>
        <p:blipFill>
          <a:blip r:embed="rId13"/>
          <a:stretch/>
        </p:blipFill>
        <p:spPr>
          <a:xfrm>
            <a:off x="426960" y="1352520"/>
            <a:ext cx="6098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"/>
          <p:cNvPicPr/>
          <p:nvPr/>
        </p:nvPicPr>
        <p:blipFill>
          <a:blip r:embed="rId14"/>
          <a:stretch/>
        </p:blipFill>
        <p:spPr>
          <a:xfrm>
            <a:off x="4295880" y="2590920"/>
            <a:ext cx="460440" cy="46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5" descr=""/>
          <p:cNvPicPr/>
          <p:nvPr/>
        </p:nvPicPr>
        <p:blipFill>
          <a:blip r:embed="rId15"/>
          <a:stretch/>
        </p:blipFill>
        <p:spPr>
          <a:xfrm>
            <a:off x="4272120" y="3981600"/>
            <a:ext cx="509400" cy="59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"/>
          <p:cNvPicPr/>
          <p:nvPr/>
        </p:nvPicPr>
        <p:blipFill>
          <a:blip r:embed="rId16"/>
          <a:stretch/>
        </p:blipFill>
        <p:spPr>
          <a:xfrm>
            <a:off x="4191120" y="1352520"/>
            <a:ext cx="671400" cy="61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"/>
          <p:cNvPicPr/>
          <p:nvPr/>
        </p:nvPicPr>
        <p:blipFill>
          <a:blip r:embed="rId17"/>
          <a:stretch/>
        </p:blipFill>
        <p:spPr>
          <a:xfrm>
            <a:off x="395280" y="4373640"/>
            <a:ext cx="67140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"/>
          <p:cNvSpPr/>
          <p:nvPr/>
        </p:nvSpPr>
        <p:spPr>
          <a:xfrm>
            <a:off x="7621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istory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1066680" y="370836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etcong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0" descr=""/>
          <p:cNvPicPr/>
          <p:nvPr/>
        </p:nvPicPr>
        <p:blipFill>
          <a:blip r:embed="rId18"/>
          <a:stretch/>
        </p:blipFill>
        <p:spPr>
          <a:xfrm>
            <a:off x="471600" y="3408480"/>
            <a:ext cx="519120" cy="47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9" descr=""/>
          <p:cNvPicPr/>
          <p:nvPr/>
        </p:nvPicPr>
        <p:blipFill>
          <a:blip r:embed="rId19"/>
          <a:stretch/>
        </p:blipFill>
        <p:spPr>
          <a:xfrm>
            <a:off x="762120" y="28051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4">
            <a:hlinkClick r:id="" action="ppaction://hlinkshowjump?jump=endshow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5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6">
            <a:hlinkClick r:id="" action="ppaction://hlinkshowjump?jump=endshow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9-599-map"/>
          <p:cNvPicPr/>
          <p:nvPr/>
        </p:nvPicPr>
        <p:blipFill>
          <a:blip r:embed="rId1"/>
          <a:stretch/>
        </p:blipFill>
        <p:spPr>
          <a:xfrm>
            <a:off x="2832120" y="345960"/>
            <a:ext cx="3492360" cy="5629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rowing Conflic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’s L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Ngo Dinh Diem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me the president of South Vietnam in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was corrupt, brutal, and unpopular from the sta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favored Catholics and the wealt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cancelled the 1956 election that would unify Vietnam under one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Ho Chi Minh’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leadership in North Vietnam was totalitarian and repressi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gave land to peasants, which made him 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914400"/>
            <a:ext cx="38876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Civil W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opponents in South Vietnam began to revo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rth Vietnam supplied weapons to Vietminh rebel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in South Vietnam formed the National Liberation Front and called their military force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cong assassinated many South Vietnamese leaders and soon controlled much of the country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1960 Ho Chi Minh sent the North Vietnamese Army into the country to fight with th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Domin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creased the number of military advisors and army special forces, or Green Be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dvisors were not to take part in combat, but many 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15000" y="1981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gan sending money and weapons to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advisors sent to train South Vietnames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080" y="3657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enn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1905120" y="487692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an expanded U.S. effort was the only way to prevent a Communist victory in Vietn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sked Congress to pass the Tonkin Gulf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0240" y="5029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U.S. Involv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iem’s Overth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continued to grow more and more un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arrested and killed Buddhist prote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.S. leaders said they would withdraw support if Diem did not change hi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refused to change his stand against Buddhists, and the United States began to support a plot to overthrow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November 1963 the South Vietnamese plotters murdered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increase the American military effort in Vietnam, Johnson needed to obtain authority from Cong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sked Congress for this authority claiming that the USS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 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attacked by North Vietnamese torpedo boats in the Gulf of Tonk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claimed this attack was unprovoked, but really th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on a spying mission and had fired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was passed on August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9-594-595-image"/>
          <p:cNvPicPr/>
          <p:nvPr/>
        </p:nvPicPr>
        <p:blipFill>
          <a:blip r:embed="rId1"/>
          <a:stretch/>
        </p:blipFill>
        <p:spPr>
          <a:xfrm>
            <a:off x="352440" y="455760"/>
            <a:ext cx="8410680" cy="5487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9-602-qf"/>
          <p:cNvPicPr/>
          <p:nvPr/>
        </p:nvPicPr>
        <p:blipFill>
          <a:blip r:embed="rId1"/>
          <a:stretch/>
        </p:blipFill>
        <p:spPr>
          <a:xfrm>
            <a:off x="2575080" y="382680"/>
            <a:ext cx="3973320" cy="5581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Support of the W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t Home and Abroa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United States sent increasing numbers of troops to defend South Vietnam, some Americans began to question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U.S. superiority in the air war fail to win quickly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made the ground war in Vietnam so difficult to f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were U.S. forces mobilized for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hy did public opinion about the war gradually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0880" y="1447920"/>
            <a:ext cx="258444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peration Rolling Thun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bombing campaign over Nor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ed military targets—army bases and airfields—as well as bridges, roads, railways, and 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in target wa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o Chi Minh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8120" y="1447920"/>
            <a:ext cx="259056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eapons of the Ai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gent Orange—defoliant, or chemical, that destroys vege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apalm—jellied form of gasoline used to create fireb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luster bombs”—sprayed sharp metal fragments when expl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y did U.S. superiority in the air war fail to win quickly in Vietnam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715000" y="1447920"/>
            <a:ext cx="28195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he Air War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ing did not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low of goods from North to South Vietnam actually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cong repaired bridges, had bunkers underground, and used weapons from the Soviet Union and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ifficult Ground War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number of U.S. ground forces in Vietnam continued to gr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strategy called for ground forces to go on search-and-destroy mis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eneral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William Westmoreland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commanded the U.S. ground troop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round troops located the enemy and called for air strik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reas that were “cleared” rarely remained that way for l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forces implemented a program of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cificatio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to “win the hearts and minds” of the South Vietnames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onmilitary pacification involved construction pro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pacification involved moving people out of their villages when Vietcong were nearb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eclining Troop Moral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72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 forces in Vietnam faced many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struck and then melted back into the ju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ese peasants seemed peaceful during the day, but at night aided or becam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knew the local geograp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arly impossible to tell the difference between a Vietcong fighter and a civil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ormous casualties inflicted upon the Communist forces did not lead to vic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ith the aid of the Soviet Union and China, North Vietnam sent a steady stream of supplies and soldiers to the S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continued to refill their ranks with civili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U.S. air strikes and the pacification program turned many peasants into Vietcong figh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Develop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295280"/>
            <a:ext cx="807696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ncern about the spread of communism led the United States to become increasingly violent in Vietn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Southeast Asia’s colonial history produce increased tensions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policies did Presidents Truman and Eisenhower pursue in Vietnam after World War 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events and conditions caused growing conflicts between North Vietnam and South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Presidents Kennedy and Johnson increase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9-607-closeup"/>
          <p:cNvPicPr/>
          <p:nvPr/>
        </p:nvPicPr>
        <p:blipFill>
          <a:blip r:embed="rId1"/>
          <a:stretch/>
        </p:blipFill>
        <p:spPr>
          <a:xfrm>
            <a:off x="2286000" y="349200"/>
            <a:ext cx="4579920" cy="5624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 for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447920"/>
            <a:ext cx="7772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than 2.5 million Americans served in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2438280"/>
            <a:ext cx="777240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average, the soldiers who served in Vietnam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lightly younger than the U.S. troops who fought in Korea and World War II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s well edu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3962520"/>
            <a:ext cx="777240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the start of the war, most American troops were professional soldiers—volunteers who enlisted in the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owever, the U.S. government came to depend on drafte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8534520" y="1752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853452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8534520" y="48769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ra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 percent were excused for health reasons; 30 percent received deferments, or postponements of serv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llege students were deferred, so men from higher-income families were less likely to ser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high percentage of combat soldiers were African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draft lottery began in 1969; the draft ended in 197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 percent of eligible men escaped the draft by either refusing to register or by leaving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Non-combat Po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mericans in Vietnam served in non-combat positions—administration, communications, engineering, medical care, and transpor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bout 10,000 American military women serv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20,000 to 45,000 more women worked in civilian capacities, many as volunteers for the Red Cross or other humanitarian relief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9-609-image"/>
          <p:cNvPicPr/>
          <p:nvPr/>
        </p:nvPicPr>
        <p:blipFill>
          <a:blip r:embed="rId1"/>
          <a:stretch/>
        </p:blipFill>
        <p:spPr>
          <a:xfrm>
            <a:off x="2209680" y="412920"/>
            <a:ext cx="45878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 that Doves Opposed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 (Ex. George Kenn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 (Ex. Dr. Benjamin Spo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(Ex. Martin Luther King J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 (Ex. Civil rights activ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 (Ex.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J. William Fulbright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1968: A Turning Poi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44792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Vietnam War dragged on and increasingly appeared to be unwinnable, deep divisions developed in American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Tet Offens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ere the effects of the Tet Offens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Johnson try to find a solution to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the election of 1968 illustrate divisions in American socie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9-613-map"/>
          <p:cNvPicPr/>
          <p:nvPr/>
        </p:nvPicPr>
        <p:blipFill>
          <a:blip r:embed="rId1"/>
          <a:stretch/>
        </p:blipFill>
        <p:spPr>
          <a:xfrm>
            <a:off x="1127160" y="361800"/>
            <a:ext cx="6873840" cy="562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57400" y="2133720"/>
            <a:ext cx="62485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January 1968 thousands of NVA and Vietcong troops attacked a U.S. military base in Khe Sa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and other rural attacks were diversions to draw U.S. and ARVN forces away from urban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23640" y="1447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et Off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57400" y="1295280"/>
            <a:ext cx="62485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 series of massive coordinated attacks throughout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31720" y="274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he Sa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8534520" y="15238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2057400" y="3886200"/>
            <a:ext cx="62485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in Communist offensive began on January 30, 1968, at the start of Tet, the Vietnamese New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84,000 Communist soldiers attacked 12 U.S. military bases and more than 100 cities across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20920" y="41911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Westmoreland called the Tet Offensive a decisive defeat for the Commun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ities taken by the Communists were re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45,000 enemy soldiers were killed.  About 1,100 Americans and 2,300 ARVN troops also d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ommunists showed that they were determined to keep on figh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showed that no part of South Vietnam was safe from at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caused many Americans to question whether or not the war in Vietnam could be w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announced that he would not seek re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hustvwfd_video.wmv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Growing Doub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ter Cronkite broadcast a television report in which he gave his personal assessment of the situation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jor national magazines such as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ewsweek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lso expressed doubts about the war and began to call for its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ublic criticism of the government’s policies grew louder and more inten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eaders within Johnson’s administration began to criticize Johnson’s polic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obert S. McNamara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gan to seek ways to end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9532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emocratic Challen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oughly 3 out of 4 Americans opposed his policies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innesota senator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ugene McCarth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challenged Johnson for the Democratic Party’s nomin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ew York senator Robert Kennedy entered the r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haken by the divisions within his party, Johnson announced that he would not seek nor accept the office of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earching for Solu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denied General Westmoreland’s request for 206,000 more groun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51460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’s advisors could not come up with the best course for the war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bert McNamara suggested limiting the air strikes and reversing the escalation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33520" y="4038480"/>
            <a:ext cx="7924680" cy="17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 decided to negotiate with the North Vietna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Paris peace talks stalled over two issues:  the United States wanted all NVA troops out of South Vietnam, and North Vietnam would not accept a temporary South Vietnam government that included a U.S.-backed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Democratic Primary 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ce President Hubert Humphrey entered the race and defended the administration’s policies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Eugene McCarthy called for a rapid end to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Robert Kennedy also called for an end to the war and won primaries in Indiana, Nebraska, and Califor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was shot leaving a Las Angeles hotel by Sirhan Sirhan, a Jordanian immigrant who didn’t like Kennedy’s support for Isra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Democratic Conven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legates at the Democratic National Convention in Chicago debated between McCarthy and Humph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3520" y="259092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tside the convention, protesters from around the country demanded an immediate end to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hicago mayor Richard Daley sent troops to maintain order but violence soon brok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33520" y="426708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elevision crews captured violent scenes between protesters and po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chaos was one symptom of a growing “generation gap” over government, politics, and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ther Contenders in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ichard Nix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public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n the nomination at the Republican National Conven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ose Spiro Agnew as his running 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the patriotism of mainstream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mised “law and ord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laimed to have a secret plan to end the war “with hon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orge Wal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ormer Alabama gover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minated by the American Independent P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pposed the civil rights movement and school desegregation and war prote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conservative Democratic white southerners and working class wh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Campa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led the polls for most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umphrey made gains when he said the bombing in Vietnam should be stopped and that the South Vietnamese should shoulder more of the war’s responsibil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peace talks in Paris made some progress when the North Vietnamese agreed to include South Vietnamese represent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nnounced an end to the bombing in Vietnam a few days before the el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election was very close—just 510,000 votes separated Nixon and Humphr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43.4 percent of the votes cast to Humphrey’s 42.7 perc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301 electoral votes to Humphrey’s 1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lace was one of the most successful third party candidates in U.S. history (46 electoral votes and 13.5 percent of the popular vot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’s electoral margin provided him with a mandate to rule that allowed him to escalate the war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9-619-map"/>
          <p:cNvPicPr/>
          <p:nvPr/>
        </p:nvPicPr>
        <p:blipFill>
          <a:blip r:embed="rId1"/>
          <a:stretch/>
        </p:blipFill>
        <p:spPr>
          <a:xfrm>
            <a:off x="2362320" y="353880"/>
            <a:ext cx="4387680" cy="5626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Nixon eventually ended U.S. involvement in Vietnam, but the war had lasting effects on the United States and in Southeast 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Nixon’s policies widen U.S. involvement in the w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bhy did protests against the war incre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Nixon achieve an end to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war’s legacy in the United States and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w did President Nixon’s policies widen U.S. involvement in the war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uring his 1968 campaign, Nixon pledged to end the war in Vietn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Nixon and his National Security Advisor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Henry Kissinger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devised plans to end the w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In 1969 Kissinger began secret peace negotiations in Paris with North Vietnamese revolutionary Le Duc T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U.S. strategy aimed at achieving “peace with honor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idening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96252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trategy of turning over more of the fighting in Vietnam to the South Vietnamese while gradually bringing U.S. ground troops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his would give South Vietnamese leaders time to create a stable, non-Communist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gan to slowly withdraw U.S. forces from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activists opposed the plan calling for an immediate end to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lieved he had the backing of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ilent majorit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of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t the same time, Nixon was secretly expanding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ordered the bombing of Cambodia to disrupt the flow of supplies on the Ho Chi Minh tra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cealed the air strikes from the American people—including members of Con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nt U.S. and ARVN troops into Cambodia and into Laos to destroy North Vietnamese army b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newed bombing of North Vietn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o force North Vietnam to seek pe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theast Asia’s Colonial Histor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rance gained control of Vietnam by 1883 despite fierce resistance from the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ench combined Vietnam with Laos and Cambodia to form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led a growing nationalist movement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uring World War II, the Japanese army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group called the League for the Independence of Vietnam, or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fou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World War II, the Vietminh declared independence, but the French quickly moved in to reclaim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ar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5120" y="274320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Lowered the voting age from 21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cGovern hoped the ratification of this amendment would boost his election ch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39200" y="175248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Geo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cGo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905120" y="1523880"/>
            <a:ext cx="6400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ator from South Dakota who criticized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sisted that the Vietnam War be brought to an immediat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7000" y="31240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26</a:t>
            </a:r>
            <a:r>
              <a:rPr b="1" lang="en-US" sz="1800" spc="-1" strike="noStrike" baseline="30000">
                <a:solidFill>
                  <a:srgbClr val="ff9900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2"/>
          <a:stretch/>
        </p:blipFill>
        <p:spPr>
          <a:xfrm>
            <a:off x="8458200" y="327672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1905120" y="3962520"/>
            <a:ext cx="64008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stressed law and order at home and told voters he would en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issinger announced a breakthrough in the peace talks just weeks before the 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announcement helped Nixon win by a land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458200" y="48769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"/>
          <p:cNvSpPr/>
          <p:nvPr/>
        </p:nvSpPr>
        <p:spPr>
          <a:xfrm>
            <a:off x="514440" y="4572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 Peace Agre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33520" y="1371600"/>
            <a:ext cx="76197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tried to force North Vietnam to make peace concessions by ordering the so-called Christmas bombing.  It failed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520" y="259092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ficials from North Vietnam, South Vietnam, and the United States finally reached an agreement in January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80988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agreed to withdraw all of its troops and help rebuild Vietnam.  Both sides agreed to release all prisoners of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greement did not settle the political future of South Vietnam—the key issue behind the war from th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8381880" y="2057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8381880" y="30481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3"/>
          <a:stretch/>
        </p:blipFill>
        <p:spPr>
          <a:xfrm>
            <a:off x="8381880" y="44197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Vietnam War’s Legac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2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years after U.S. troops were withdrawn, North Vietnamese troops invaded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a short amount of fighting, South Vietnam surrende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U.S. military rushed to evacuate Americans still working in Saig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130,000 South Vietnamese were also evacuated and flown to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two decades of “temporary” division, Vietnam was reunited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5, Communist forces called the Khmer Rouge gained control of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 forces invaded Cambodia in 1979, overthrew the Khmer Rouge, and occupied the country till 198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1066680"/>
            <a:ext cx="258444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outheast Asi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635,000 South Vietnamese died; Vietcong and NVA war dead equaled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vere environmental damage from bombs and defol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re than 1.5 million South Vietnamese fled the country after the fall of Saig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8120" y="1066680"/>
            <a:ext cx="2590560" cy="4876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ete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58,000 Americans were killed; 600 were held as POWs; 2,500 soldiers reported MIA; 300,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xperienced a negative reception upo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uble readjusting to civilian life (post-traumatic stress dis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Legacy of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5715000" y="1066680"/>
            <a:ext cx="274320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litical Impa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nited States failed to prevent Communists from taking over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pent more than $150 billion o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hanged how many Americans viewe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gress passed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ar Powers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in 19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9-628-image"/>
          <p:cNvPicPr/>
          <p:nvPr/>
        </p:nvPicPr>
        <p:blipFill>
          <a:blip r:embed="rId1"/>
          <a:stretch/>
        </p:blipFill>
        <p:spPr>
          <a:xfrm>
            <a:off x="1004760" y="1905120"/>
            <a:ext cx="7132680" cy="25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19-629-image"/>
          <p:cNvPicPr/>
          <p:nvPr/>
        </p:nvPicPr>
        <p:blipFill>
          <a:blip r:embed="rId1"/>
          <a:stretch/>
        </p:blipFill>
        <p:spPr>
          <a:xfrm>
            <a:off x="2743200" y="384120"/>
            <a:ext cx="4067280" cy="548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9-630-vs"/>
          <p:cNvPicPr/>
          <p:nvPr/>
        </p:nvPicPr>
        <p:blipFill>
          <a:blip r:embed="rId1"/>
          <a:stretch/>
        </p:blipFill>
        <p:spPr>
          <a:xfrm>
            <a:off x="414360" y="55548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 Chi Min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al name is Nguyen That Thanh;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means “He Who Enlighten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articipated in tax revolts against the Frenc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oined the French Communist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elieved that a Communist revolution was a way Vietnam could be free of foreign rul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03848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orld War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organized the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to fi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surrendered to the Allies in 1945, and the Vietminh declared Vietnam to be independ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hoped for U.S. support of their independ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French reclaimed Vietnam after World War 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86104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at policies did Presidents Truman and Eisenhower pursue in Vietnam after WW II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s seized China in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 North Korea invaded South Korea in 19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-led revolts in Indonesia, Malaya, and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7680" y="1981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r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aw Vietnam in terms of the Cold War struggle against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upported France; unwilling to back the Vietminh because many were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0480" y="3657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1905120" y="4876920"/>
            <a:ext cx="6400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t arms, ammunition, supplies, and money to the French forces in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15000" y="51055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Vietnam after World War II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omino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the belief that communism would spread to neighboring countries if Vietnam fell to commun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avoid this, the United States supported the French during the Vietnam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y 1954 the United States was paying more than 75 percent of the cost of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continued to lose battle after batt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minh used guerrilla tactics effective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France Def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soldiers made a last stand at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ien Bien Ph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forces hoped for a U.S. rescue, but Eisenhower did not want to send U.S. soldiers to Asia so soon after Kor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surrendered on May 7,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fter eight years of fighting, the two sides had lost nearly 300,000 sold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had learned how to fight a guerilla war against an enemy with superior weapons and technolo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Geneva Conferenc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114300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goal of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Geneva Conferenc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was to work out a peace agreement and arrange for Indochina’s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2057400"/>
            <a:ext cx="76197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ccording to the Geneva Accords, Vietnam was temporarily divided at the 17</a:t>
            </a:r>
            <a:r>
              <a:rPr b="0" lang="en-US" sz="2000" spc="-1" strike="noStrike" baseline="30000">
                <a:solidFill>
                  <a:srgbClr val="0033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minh forces controlled the North and the French would withdraw from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396252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elections were to be held in July 1956 and would reunify the country under on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never fully supported the peace agreements fearing that Ho Chi Minh and the Communists would win the nationwide 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81880" y="14479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381880" y="28195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8381880" y="51055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 between North Vietna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nd South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Eisenhower hoped to prevent communism from spreading to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uth Vietnam’s leader was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Ngo Dinh Die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rth Vietnam’s leader was Ho Chi Mihn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hile Ho Chi Minh became more and more popular in North Vietnam, Ngo Dinh Diem’s corrupt and brutal leadership began to anger many South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y the late 1950s a civil war broke out in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by 1960, Ho Chi Minh expanded the effort to unify North and South Vietnam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acerdote, Kevin R.</cp:lastModifiedBy>
  <cp:lastPrinted>2005-02-01T16:21:45Z</cp:lastPrinted>
  <dcterms:modified xsi:type="dcterms:W3CDTF">2013-11-08T13:51:57Z</dcterms:modified>
  <cp:revision>96</cp:revision>
  <dc:subject/>
  <dc:title>PowerPoint Presentation</dc:title>
</cp:coreProperties>
</file>