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lick to move the slide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39E6-BE21-4B74-9831-21F70CB53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4506-22BD-4125-A657-A435C8658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C556-9EFB-4CA0-9F50-1227D3891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28DB-C812-47CA-BC84-C050C3830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8D8D-CB25-4EF6-8174-B11D71231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C0CB-7AC3-46CD-9081-A2009AED8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B487-3050-4F00-80CF-03423FBC6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DDF7-4A0B-4F94-B462-EFB778505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4911-0FC7-4743-AEB6-8FA26D9F6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BD5D-9736-4F6B-BFE6-11A61DF7B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DB3D-D23E-4997-AE88-70811CC3D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D502-B6DF-44BE-B4F1-D72DFB553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737E-646C-4553-8EA6-3680B8E1F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BB17-85AE-4438-AED2-398956448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4068-281D-4551-8E40-826724479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E9F4-716C-4F8B-8631-7D48BED08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5507-FFB6-42C6-88BD-B35324D11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E48E-37D6-49E2-9439-75B3CFD9E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DCDD-0BD3-42E1-895F-A8180690B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8EE5-FFF8-471D-AE87-7D18A9A45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B35F-F6AF-4AC3-9EED-90057BFDA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BD1B-C2BD-4BDD-93B1-43DEA41CF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9C49-B7FD-4A5B-BEAB-A33C3922C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BC7F-A4A4-47C8-BB34-571D0AC53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AB28-FF10-4BE1-9279-4E8AEDFD5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6ACD-ECE7-4082-BA38-42491A337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D774-4DA8-4F9D-8043-E1986980D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0EA8-2A49-49C1-BF5E-9067C6BC0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F50B-945C-45BB-B2EF-8B5560FB5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4529-0BF2-4B58-B164-D74A84AF2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6418-6601-4462-9318-B78A09216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B932-2CC4-4A5F-AFB9-4E6C012CA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510F-C67C-4A6A-8BF4-55B726639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FBB9-3BD1-4A67-B175-60CA3EB5A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C1E6-EB5F-48CD-BB04-79CC13F93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02DE-7D27-4256-A257-E485F2274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5208-65F1-4252-B5E9-854A7C09D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7527-CB68-4D7F-8BAB-FF99F702E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0769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" name="Rectangle 7">
            <a:hlinkClick r:id="" action="ppaction://hlinkshowjump?jump=firstslide"/>
          </p:cNvPr>
          <p:cNvSpPr/>
          <p:nvPr/>
        </p:nvSpPr>
        <p:spPr>
          <a:xfrm>
            <a:off x="8305920" y="6095880"/>
            <a:ext cx="685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8">
            <a:hlinkClick r:id="" action="ppaction://hlinkshowjump?jump=endshow"/>
          </p:cNvPr>
          <p:cNvSpPr/>
          <p:nvPr/>
        </p:nvSpPr>
        <p:spPr>
          <a:xfrm>
            <a:off x="76201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9">
            <a:hlinkClick r:id="" action="ppaction://hlinkshowjump?jump=nextslide"/>
          </p:cNvPr>
          <p:cNvSpPr/>
          <p:nvPr/>
        </p:nvSpPr>
        <p:spPr>
          <a:xfrm>
            <a:off x="69343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>
            <a:hlinkClick r:id="" action="ppaction://hlinkshowjump?jump=previousslide"/>
          </p:cNvPr>
          <p:cNvSpPr/>
          <p:nvPr/>
        </p:nvSpPr>
        <p:spPr>
          <a:xfrm>
            <a:off x="6172200" y="6019920"/>
            <a:ext cx="76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" Target="slide16.xml"/><Relationship Id="rId4" Type="http://schemas.openxmlformats.org/officeDocument/2006/relationships/slide" Target="slide26.xml"/><Relationship Id="rId5" Type="http://schemas.openxmlformats.org/officeDocument/2006/relationships/slide" Target="slide37.xml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" Target="slide3.xml"/><Relationship Id="rId9" Type="http://schemas.openxmlformats.org/officeDocument/2006/relationships/slide" Target="slide14.xml"/><Relationship Id="rId10" Type="http://schemas.openxmlformats.org/officeDocument/2006/relationships/slide" Target="slide14.xml"/><Relationship Id="rId11" Type="http://schemas.openxmlformats.org/officeDocument/2006/relationships/slide" Target="slide14.xml"/><Relationship Id="rId12" Type="http://schemas.openxmlformats.org/officeDocument/2006/relationships/slide" Target="slide23.xml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8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1.png"/><Relationship Id="rId2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304920" y="685800"/>
            <a:ext cx="8534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hapter 19 – The Vietnam W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1066680" y="1352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Section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4" descr=""/>
          <p:cNvPicPr/>
          <p:nvPr/>
        </p:nvPicPr>
        <p:blipFill>
          <a:blip r:embed="rId1"/>
          <a:stretch/>
        </p:blipFill>
        <p:spPr>
          <a:xfrm>
            <a:off x="762120" y="1886040"/>
            <a:ext cx="152280" cy="1476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066680" y="1733400"/>
            <a:ext cx="381024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  <a:hlinkClick r:id="rId2" action="ppaction://hlinksldjump"/>
              </a:rPr>
              <a:t>The War Devel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  <a:hlinkClick r:id="rId3" action="ppaction://hlinksldjump"/>
              </a:rPr>
              <a:t>U.S. Support of the War at Home and Abr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  <a:hlinkClick r:id="rId4" action="ppaction://hlinksldjump"/>
              </a:rPr>
              <a:t>1968: A Turning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  <a:hlinkClick r:id="rId5" action="ppaction://hlinksldjump"/>
              </a:rPr>
              <a:t>The War 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6" descr=""/>
          <p:cNvPicPr/>
          <p:nvPr/>
        </p:nvPicPr>
        <p:blipFill>
          <a:blip r:embed="rId6"/>
          <a:stretch/>
        </p:blipFill>
        <p:spPr>
          <a:xfrm>
            <a:off x="762120" y="2114640"/>
            <a:ext cx="152280" cy="147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" descr=""/>
          <p:cNvPicPr/>
          <p:nvPr/>
        </p:nvPicPr>
        <p:blipFill>
          <a:blip r:embed="rId7"/>
          <a:stretch/>
        </p:blipFill>
        <p:spPr>
          <a:xfrm>
            <a:off x="762120" y="2576520"/>
            <a:ext cx="152280" cy="1476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20"/>
          <p:cNvSpPr/>
          <p:nvPr/>
        </p:nvSpPr>
        <p:spPr>
          <a:xfrm>
            <a:off x="4800600" y="1352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2"/>
          <p:cNvSpPr/>
          <p:nvPr/>
        </p:nvSpPr>
        <p:spPr>
          <a:xfrm>
            <a:off x="4800600" y="1733400"/>
            <a:ext cx="4038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  <a:hlinkClick r:id="rId8" action="ppaction://hlinksldjump"/>
              </a:rPr>
              <a:t>The Vietnam W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0"/>
          <p:cNvSpPr/>
          <p:nvPr/>
        </p:nvSpPr>
        <p:spPr>
          <a:xfrm>
            <a:off x="4419720" y="39625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2"/>
          <p:cNvSpPr/>
          <p:nvPr/>
        </p:nvSpPr>
        <p:spPr>
          <a:xfrm>
            <a:off x="4800600" y="4308480"/>
            <a:ext cx="40384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  <a:hlinkClick r:id="rId9" action="ppaction://hlinksldjump"/>
              </a:rPr>
              <a:t>9</a:t>
            </a:r>
            <a:r>
              <a:rPr b="0" lang="en-US" sz="1600" spc="-1" strike="noStrike" u="sng" baseline="30000">
                <a:solidFill>
                  <a:srgbClr val="ffff99"/>
                </a:solidFill>
                <a:uFillTx/>
                <a:latin typeface="Verdana"/>
                <a:hlinkClick r:id="rId10" action="ppaction://hlinksldjump"/>
              </a:rPr>
              <a:t>th</a:t>
            </a:r>
            <a:r>
              <a:rPr b="0" lang="en-US" sz="1600" spc="-1" strike="noStrike" u="sng" baseline="30000">
                <a:solidFill>
                  <a:srgbClr val="ffff99"/>
                </a:solidFill>
                <a:uFillTx/>
                <a:latin typeface="Verdana"/>
                <a:hlinkClick r:id="rId11" action="ppaction://hlinksldjump"/>
              </a:rPr>
              <a:t> Calvary in Vietn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  <a:hlinkClick r:id="rId12" action="ppaction://hlinksldjump"/>
              </a:rPr>
              <a:t>U.S. Forces in Vietnam, 1965 – 19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</a:rPr>
              <a:t>Tet Offensive Casual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</a:rPr>
              <a:t>Political Cartoon: Vietnam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7"/>
          <p:cNvSpPr/>
          <p:nvPr/>
        </p:nvSpPr>
        <p:spPr>
          <a:xfrm>
            <a:off x="762120" y="43876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Quick F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9"/>
          <p:cNvSpPr/>
          <p:nvPr/>
        </p:nvSpPr>
        <p:spPr>
          <a:xfrm>
            <a:off x="1066680" y="474336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</a:rPr>
              <a:t>Causes of the Vietnam W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</a:rPr>
              <a:t>Visual Summary: The Vietnam W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2"/>
          <p:cNvSpPr/>
          <p:nvPr/>
        </p:nvSpPr>
        <p:spPr>
          <a:xfrm>
            <a:off x="4495680" y="2438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4"/>
          <p:cNvSpPr/>
          <p:nvPr/>
        </p:nvSpPr>
        <p:spPr>
          <a:xfrm>
            <a:off x="4800600" y="2819520"/>
            <a:ext cx="419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</a:rPr>
              <a:t>Indochina, 19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</a:rPr>
              <a:t>The Vietnam Conflict, 1964 – 19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</a:rPr>
              <a:t>The Election of 196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9" descr=""/>
          <p:cNvPicPr/>
          <p:nvPr/>
        </p:nvPicPr>
        <p:blipFill>
          <a:blip r:embed="rId13"/>
          <a:stretch/>
        </p:blipFill>
        <p:spPr>
          <a:xfrm>
            <a:off x="426960" y="1352520"/>
            <a:ext cx="609840" cy="53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1" descr=""/>
          <p:cNvPicPr/>
          <p:nvPr/>
        </p:nvPicPr>
        <p:blipFill>
          <a:blip r:embed="rId14"/>
          <a:stretch/>
        </p:blipFill>
        <p:spPr>
          <a:xfrm>
            <a:off x="4295880" y="2590920"/>
            <a:ext cx="460440" cy="460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5" descr=""/>
          <p:cNvPicPr/>
          <p:nvPr/>
        </p:nvPicPr>
        <p:blipFill>
          <a:blip r:embed="rId15"/>
          <a:stretch/>
        </p:blipFill>
        <p:spPr>
          <a:xfrm>
            <a:off x="4272120" y="3981600"/>
            <a:ext cx="509400" cy="590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5" descr=""/>
          <p:cNvPicPr/>
          <p:nvPr/>
        </p:nvPicPr>
        <p:blipFill>
          <a:blip r:embed="rId16"/>
          <a:stretch/>
        </p:blipFill>
        <p:spPr>
          <a:xfrm>
            <a:off x="4191120" y="1352520"/>
            <a:ext cx="671400" cy="617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6" descr=""/>
          <p:cNvPicPr/>
          <p:nvPr/>
        </p:nvPicPr>
        <p:blipFill>
          <a:blip r:embed="rId17"/>
          <a:stretch/>
        </p:blipFill>
        <p:spPr>
          <a:xfrm>
            <a:off x="395280" y="4373640"/>
            <a:ext cx="671400" cy="5824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8"/>
          <p:cNvSpPr/>
          <p:nvPr/>
        </p:nvSpPr>
        <p:spPr>
          <a:xfrm>
            <a:off x="762120" y="33526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History Close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9"/>
          <p:cNvSpPr/>
          <p:nvPr/>
        </p:nvSpPr>
        <p:spPr>
          <a:xfrm>
            <a:off x="1066680" y="3708360"/>
            <a:ext cx="33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</a:rPr>
              <a:t>Vietcong Tun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0" descr=""/>
          <p:cNvPicPr/>
          <p:nvPr/>
        </p:nvPicPr>
        <p:blipFill>
          <a:blip r:embed="rId18"/>
          <a:stretch/>
        </p:blipFill>
        <p:spPr>
          <a:xfrm>
            <a:off x="471600" y="3408480"/>
            <a:ext cx="519120" cy="477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9" descr=""/>
          <p:cNvPicPr/>
          <p:nvPr/>
        </p:nvPicPr>
        <p:blipFill>
          <a:blip r:embed="rId19"/>
          <a:stretch/>
        </p:blipFill>
        <p:spPr>
          <a:xfrm>
            <a:off x="762120" y="2805120"/>
            <a:ext cx="152280" cy="1476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84">
            <a:hlinkClick r:id="" action="ppaction://hlinkshowjump?jump=endshow"/>
          </p:cNvPr>
          <p:cNvSpPr/>
          <p:nvPr/>
        </p:nvSpPr>
        <p:spPr>
          <a:xfrm>
            <a:off x="8305920" y="6095880"/>
            <a:ext cx="685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5">
            <a:hlinkClick r:id="" action="ppaction://hlinkshowjump?jump=nextslide"/>
          </p:cNvPr>
          <p:cNvSpPr/>
          <p:nvPr/>
        </p:nvSpPr>
        <p:spPr>
          <a:xfrm>
            <a:off x="69343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6">
            <a:hlinkClick r:id="" action="ppaction://hlinkshowjump?jump=endshow"/>
          </p:cNvPr>
          <p:cNvSpPr/>
          <p:nvPr/>
        </p:nvSpPr>
        <p:spPr>
          <a:xfrm>
            <a:off x="6172200" y="6019920"/>
            <a:ext cx="76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19-599-map"/>
          <p:cNvPicPr/>
          <p:nvPr/>
        </p:nvPicPr>
        <p:blipFill>
          <a:blip r:embed="rId1"/>
          <a:stretch/>
        </p:blipFill>
        <p:spPr>
          <a:xfrm>
            <a:off x="2832120" y="345960"/>
            <a:ext cx="3492360" cy="56293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">
            <a:hlinkClick r:id="" action="ppaction://hlinkshowjump?jump=firstslide"/>
          </p:cNvPr>
          <p:cNvSpPr/>
          <p:nvPr/>
        </p:nvSpPr>
        <p:spPr>
          <a:xfrm>
            <a:off x="6172200" y="6019920"/>
            <a:ext cx="76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Growing Conflict in Vietnam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3886200" cy="50292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Vietnam’s Lead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Verdana"/>
              </a:rPr>
              <a:t>Ngo Dinh Diem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 became the president of South Vietnam in 1954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Diem’s government was corrupt, brutal, and unpopular from the star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He favored Catholics and the wealth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Diem cancelled the 1956 election that would unify Vietnam under one governme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Verdana"/>
              </a:rPr>
              <a:t>Ho Chi Minh’s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 leadership in North Vietnam was totalitarian and repressiv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He gave land to peasants, which made him popul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1640" y="914400"/>
            <a:ext cx="3887640" cy="50292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A Civil W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Diem’s opponents in South Vietnam began to revol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North Vietnam supplied weapons to Vietminh rebels in South Vietna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he Vietminh in South Vietnam formed the National Liberation Front and called their military forces the </a:t>
            </a: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Vietco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he Vietcong assassinated many South Vietnamese leaders and soon controlled much of the countrysid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In 1960 Ho Chi Minh sent the North Vietnamese Army into the country to fight with the Vietco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8534520" y="342900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8534520" y="3809880"/>
            <a:ext cx="160200" cy="160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U.S. Involvement in Vietnam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905120" y="3048120"/>
            <a:ext cx="6400800" cy="1752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Believed in the Domino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Increased the number of military advisors and army special forces, or Green Ber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Advisors were not to take part in combat, but many d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315000" y="198108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Eisenh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1905120" y="1600200"/>
            <a:ext cx="640080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Began sending money and weapons to South Vietn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Military advisors sent to train South Vietnamese ar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289080" y="365760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Kenne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tretch/>
        </p:blipFill>
        <p:spPr>
          <a:xfrm>
            <a:off x="8458200" y="236232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"/>
          <p:cNvPicPr/>
          <p:nvPr/>
        </p:nvPicPr>
        <p:blipFill>
          <a:blip r:embed="rId2"/>
          <a:stretch/>
        </p:blipFill>
        <p:spPr>
          <a:xfrm>
            <a:off x="8458200" y="4038480"/>
            <a:ext cx="160200" cy="1605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9"/>
          <p:cNvSpPr/>
          <p:nvPr/>
        </p:nvSpPr>
        <p:spPr>
          <a:xfrm>
            <a:off x="1905120" y="4876920"/>
            <a:ext cx="6400800" cy="10666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Believed an expanded U.S. effort was the only way to prevent a Communist victory in Vietn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Asked Congress to pass the Tonkin Gulf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300240" y="502920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John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1" descr=""/>
          <p:cNvPicPr/>
          <p:nvPr/>
        </p:nvPicPr>
        <p:blipFill>
          <a:blip r:embed="rId3"/>
          <a:stretch/>
        </p:blipFill>
        <p:spPr>
          <a:xfrm>
            <a:off x="8458200" y="5181480"/>
            <a:ext cx="171360" cy="171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Increasing U.S. Involvement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3886200" cy="46479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Diem’s Overthro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Diem’s government continued to grow more and more unpopul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He arrested and killed Buddhist protest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U.S. leaders said they would withdraw support if Diem did not change his way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Diem refused to change his stand against Buddhists, and the United States began to support a plot to overthrow Die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In November 1963 the South Vietnamese plotters murdered Die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1640" y="1218960"/>
            <a:ext cx="3887640" cy="46479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Tonkin Gulf Resolu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o increase the American military effort in Vietnam, Johnson needed to obtain authority from Congres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Johnson asked Congress for this authority claiming that the USS</a:t>
            </a:r>
            <a:r>
              <a:rPr b="0" i="1" lang="en-US" sz="1800" spc="-1" strike="noStrike">
                <a:solidFill>
                  <a:srgbClr val="ffff99"/>
                </a:solidFill>
                <a:latin typeface="Verdana"/>
              </a:rPr>
              <a:t> Maddox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 had been attacked by North Vietnamese torpedo boats in the Gulf of Tonki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Johnson claimed this attack was unprovoked, but really the </a:t>
            </a:r>
            <a:r>
              <a:rPr b="0" i="1" lang="en-US" sz="1800" spc="-1" strike="noStrike">
                <a:solidFill>
                  <a:srgbClr val="ffff99"/>
                </a:solidFill>
                <a:latin typeface="Verdana"/>
              </a:rPr>
              <a:t>Maddox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 had been on a spying mission and had fired firs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he </a:t>
            </a: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Tonkin Gulf Resolution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 was passed on August 7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8534520" y="342900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8534520" y="3809880"/>
            <a:ext cx="160200" cy="1605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2">
            <a:hlinkClick r:id="" action="ppaction://hlinkshowjump?jump=firstslide"/>
          </p:cNvPr>
          <p:cNvSpPr/>
          <p:nvPr/>
        </p:nvSpPr>
        <p:spPr>
          <a:xfrm>
            <a:off x="69343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">
            <a:hlinkClick r:id="" action="ppaction://hlinkshowjump?jump=firstslide"/>
          </p:cNvPr>
          <p:cNvSpPr/>
          <p:nvPr/>
        </p:nvSpPr>
        <p:spPr>
          <a:xfrm>
            <a:off x="6172200" y="6019920"/>
            <a:ext cx="76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19-594-595-image"/>
          <p:cNvPicPr/>
          <p:nvPr/>
        </p:nvPicPr>
        <p:blipFill>
          <a:blip r:embed="rId1"/>
          <a:stretch/>
        </p:blipFill>
        <p:spPr>
          <a:xfrm>
            <a:off x="352440" y="455760"/>
            <a:ext cx="8410680" cy="54878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9-602-qf"/>
          <p:cNvPicPr/>
          <p:nvPr/>
        </p:nvPicPr>
        <p:blipFill>
          <a:blip r:embed="rId1"/>
          <a:stretch/>
        </p:blipFill>
        <p:spPr>
          <a:xfrm>
            <a:off x="2575080" y="382680"/>
            <a:ext cx="3973320" cy="55814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>
            <a:hlinkClick r:id="" action="ppaction://hlinkshowjump?jump=firstslide"/>
          </p:cNvPr>
          <p:cNvSpPr/>
          <p:nvPr/>
        </p:nvSpPr>
        <p:spPr>
          <a:xfrm>
            <a:off x="6172200" y="6019920"/>
            <a:ext cx="76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U.S. Support of the War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 at Home and Abroad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533520" y="1523880"/>
            <a:ext cx="807696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The Main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s the United States sent increasing numbers of troops to defend South Vietnam, some Americans began to question the w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Reading Foc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Why did U.S. superiority in the air war fail to win quickly in Vietnam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What made the ground war in Vietnam so difficult to figh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How were U.S. forces mobilized for the w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How and why did public opinion about the war gradually chan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>
            <a:hlinkClick r:id="" action="ppaction://hlinkshowjump?jump=firstslide"/>
          </p:cNvPr>
          <p:cNvSpPr/>
          <p:nvPr/>
        </p:nvSpPr>
        <p:spPr>
          <a:xfrm>
            <a:off x="6172200" y="6019920"/>
            <a:ext cx="76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380880" y="1447920"/>
            <a:ext cx="2584440" cy="44956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Operation Rolling Thunder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A bombing campaign over North Vietn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Bombed military targets—army bases and airfields—as well as bridges, roads, railways, and power 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Main target was the </a:t>
            </a: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Ho Chi Minh Tr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048120" y="1447920"/>
            <a:ext cx="2590560" cy="44956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Weapons of the Air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Agent Orange—defoliant, or chemical, that destroys vege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Napalm—jellied form of gasoline used to create firebom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Cluster bombs”—sprayed sharp metal fragments when explo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Why did U.S. superiority in the air war fail to win quickly in Vietnam?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8610480" y="3352680"/>
            <a:ext cx="160560" cy="160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2"/>
          <a:stretch/>
        </p:blipFill>
        <p:spPr>
          <a:xfrm>
            <a:off x="8610480" y="2895480"/>
            <a:ext cx="160560" cy="160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3"/>
          <a:stretch/>
        </p:blipFill>
        <p:spPr>
          <a:xfrm>
            <a:off x="8610480" y="3809880"/>
            <a:ext cx="160560" cy="1605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8"/>
          <p:cNvSpPr/>
          <p:nvPr/>
        </p:nvSpPr>
        <p:spPr>
          <a:xfrm>
            <a:off x="5715000" y="1447920"/>
            <a:ext cx="2819520" cy="44956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The Air War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Bombing did not succ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Flow of goods from North to South Vietnam actually incre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Vietcong repaired bridges, had bunkers underground, and used weapons from the Soviet Union and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Difficult Ground War in Vietnam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077320" cy="441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number of U.S. ground forces in Vietnam continued to gro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U.S. strategy called for ground forces to go on search-and-destroy miss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General </a:t>
            </a:r>
            <a:r>
              <a:rPr b="1" lang="en-US" sz="1800" spc="-1" strike="noStrike">
                <a:solidFill>
                  <a:srgbClr val="003300"/>
                </a:solidFill>
                <a:latin typeface="Verdana"/>
              </a:rPr>
              <a:t>William Westmoreland</a:t>
            </a: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 commanded the U.S. ground troops in South Vietna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Ground troops located the enemy and called for air strik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Areas that were “cleared” rarely remained that way for lo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U.S. forces implemented a program of </a:t>
            </a: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pacification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 to “win the hearts and minds” of the South Vietnamese peop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Nonmilitary pacification involved construction projec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Military pacification involved moving people out of their villages when Vietcong were nearb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7696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Declining Troop Morale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05920" cy="4724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merican forces in Vietnam faced many challeng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Vietcong struck and then melted back into the jung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Vietnamese peasants seemed peaceful during the day, but at night aided or became Vietco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Vietcong knew the local geograph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Nearly impossible to tell the difference between a Vietcong fighter and a civilia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Enormous casualties inflicted upon the Communist forces did not lead to victor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With the aid of the Soviet Union and China, North Vietnam sent a steady stream of supplies and soldiers to the South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Vietcong continued to refill their ranks with civilia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U.S. air strikes and the pacification program turned many peasants into Vietcong fight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The War Develops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533520" y="1295280"/>
            <a:ext cx="8076960" cy="44960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The Main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Concern about the spread of communism led the United States to become increasingly violent in Vietn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Reading Foc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How did Southeast Asia’s colonial history produce increased tensions in Vietnam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What policies did Presidents Truman and Eisenhower pursue in Vietnam after World War I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What events and conditions caused growing conflicts between North Vietnam and South Vietna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Why did Presidents Kennedy and Johnson increase U.S. involvement in Vietna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19-607-closeup"/>
          <p:cNvPicPr/>
          <p:nvPr/>
        </p:nvPicPr>
        <p:blipFill>
          <a:blip r:embed="rId1"/>
          <a:stretch/>
        </p:blipFill>
        <p:spPr>
          <a:xfrm>
            <a:off x="2286000" y="349200"/>
            <a:ext cx="4579920" cy="56246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>
            <a:hlinkClick r:id="" action="ppaction://hlinkshowjump?jump=firstslide"/>
          </p:cNvPr>
          <p:cNvSpPr/>
          <p:nvPr/>
        </p:nvSpPr>
        <p:spPr>
          <a:xfrm>
            <a:off x="69343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>
            <a:hlinkClick r:id="" action="ppaction://hlinkshowjump?jump=firstslide"/>
          </p:cNvPr>
          <p:cNvSpPr/>
          <p:nvPr/>
        </p:nvSpPr>
        <p:spPr>
          <a:xfrm>
            <a:off x="6172200" y="6019920"/>
            <a:ext cx="76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U.S. Forces Mobilize for the War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533520" y="1447920"/>
            <a:ext cx="77724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More than 2.5 million Americans served in the Vietnam W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33520" y="2438280"/>
            <a:ext cx="7772400" cy="131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On average, the soldiers who served in Vietnam w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lightly younger than the U.S. troops who fought in Korea and World War II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not as well educ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33520" y="3962520"/>
            <a:ext cx="7772400" cy="1923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t the start of the war, most American troops were professional soldiers—volunteers who enlisted in the armed for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However, the U.S. government came to depend on drafted soldi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"/>
          <p:cNvPicPr/>
          <p:nvPr/>
        </p:nvPicPr>
        <p:blipFill>
          <a:blip r:embed="rId1"/>
          <a:stretch/>
        </p:blipFill>
        <p:spPr>
          <a:xfrm>
            <a:off x="8534520" y="1752480"/>
            <a:ext cx="160200" cy="160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"/>
          <p:cNvPicPr/>
          <p:nvPr/>
        </p:nvPicPr>
        <p:blipFill>
          <a:blip r:embed="rId2"/>
          <a:stretch/>
        </p:blipFill>
        <p:spPr>
          <a:xfrm>
            <a:off x="8534520" y="327672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"/>
          <p:cNvPicPr/>
          <p:nvPr/>
        </p:nvPicPr>
        <p:blipFill>
          <a:blip r:embed="rId3"/>
          <a:stretch/>
        </p:blipFill>
        <p:spPr>
          <a:xfrm>
            <a:off x="8534520" y="4876920"/>
            <a:ext cx="160200" cy="160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U.S. Forces Mobilize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3886200" cy="49528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The Draf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25 percent were excused for health reasons; 30 percent received deferments, or postponements of servic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College students were deferred, so men from higher-income families were less likely to serv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A high percentage of combat soldiers were African America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A draft lottery began in 1969; the draft ended in 1973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3 percent of eligible men escaped the draft by either refusing to register or by leaving the United Stat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95320" y="914400"/>
            <a:ext cx="3886200" cy="49528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Non-combat Pos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Most Americans in Vietnam served in non-combat positions—administration, communications, engineering, medical care, and transport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About 10,000 American military women serv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Some 20,000 to 45,000 more women worked in civilian capacities, many as volunteers for the Red Cross or other humanitarian relief organiza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8534520" y="342900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"/>
          <p:cNvPicPr/>
          <p:nvPr/>
        </p:nvPicPr>
        <p:blipFill>
          <a:blip r:embed="rId2"/>
          <a:stretch/>
        </p:blipFill>
        <p:spPr>
          <a:xfrm>
            <a:off x="8534520" y="3809880"/>
            <a:ext cx="160200" cy="160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19-609-image"/>
          <p:cNvPicPr/>
          <p:nvPr/>
        </p:nvPicPr>
        <p:blipFill>
          <a:blip r:embed="rId1"/>
          <a:stretch/>
        </p:blipFill>
        <p:spPr>
          <a:xfrm>
            <a:off x="2209680" y="412920"/>
            <a:ext cx="4587840" cy="5486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304920" y="1447920"/>
            <a:ext cx="2666880" cy="44956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Media’s Impact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Reporters and television crews went on patrol with the soldi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elevision brought scenes of firefights and burning villages into America’s living ro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Criticized the government’s reports about the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3048120" y="1447920"/>
            <a:ext cx="2666880" cy="44956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Hawks and Do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Doves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—people opposed to the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Hawks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—people who supported the war’s 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Both criticized the war effo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Hawks wanted more troops and bomb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Doves opposed the war for many reas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Public Opinion Regarding the Vietnam War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8678880" y="3352680"/>
            <a:ext cx="160200" cy="160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"/>
          <p:cNvPicPr/>
          <p:nvPr/>
        </p:nvPicPr>
        <p:blipFill>
          <a:blip r:embed="rId2"/>
          <a:stretch/>
        </p:blipFill>
        <p:spPr>
          <a:xfrm>
            <a:off x="8678880" y="2895480"/>
            <a:ext cx="160200" cy="160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"/>
          <p:cNvPicPr/>
          <p:nvPr/>
        </p:nvPicPr>
        <p:blipFill>
          <a:blip r:embed="rId3"/>
          <a:stretch/>
        </p:blipFill>
        <p:spPr>
          <a:xfrm>
            <a:off x="8678880" y="3809880"/>
            <a:ext cx="160200" cy="1605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8"/>
          <p:cNvSpPr/>
          <p:nvPr/>
        </p:nvSpPr>
        <p:spPr>
          <a:xfrm>
            <a:off x="5791320" y="1447920"/>
            <a:ext cx="2895480" cy="44956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Antiwar Movement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Movement attracted a broad range of particip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Much antiwar activity took place on college campu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Most vocal group—Students for a Democratic Socie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Antiwar protesters made up a small percentage of the U.S. pop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Reasons that Doves Opposed the War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rgued that Vietnam was not crucial to American national security (Ex. George Kenn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rgued that the United States was fighting against the wishes of a majority of Vietnamese (Ex. Dr. Benjamin Spock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rgued that the war was draining needed resources from Great Society programs (Ex. Martin Luther King Jr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rgued that it was unfair for African Americans to fight for democracy in a foreign land when discrimination continued at home (Ex. Civil rights activist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rgued that Johnson’s policies were too extreme (Ex. </a:t>
            </a: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J. William Fulbright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9">
            <a:hlinkClick r:id="" action="ppaction://hlinkshowjump?jump=firstslide"/>
          </p:cNvPr>
          <p:cNvSpPr/>
          <p:nvPr/>
        </p:nvSpPr>
        <p:spPr>
          <a:xfrm>
            <a:off x="69343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1968: A Turning Point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533520" y="1447920"/>
            <a:ext cx="8076960" cy="4343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The Main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s the Vietnam War dragged on and increasingly appeared to be unwinnable, deep divisions developed in American socie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Reading Foc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What was the Tet Offensiv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What were the effects of the Tet Offens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How did President Johnson try to find a solution to the w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How did the election of 1968 illustrate divisions in American socie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>
            <a:hlinkClick r:id="" action="ppaction://hlinkshowjump?jump=firstslide"/>
          </p:cNvPr>
          <p:cNvSpPr/>
          <p:nvPr/>
        </p:nvSpPr>
        <p:spPr>
          <a:xfrm>
            <a:off x="6172200" y="6019920"/>
            <a:ext cx="76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19-613-map"/>
          <p:cNvPicPr/>
          <p:nvPr/>
        </p:nvPicPr>
        <p:blipFill>
          <a:blip r:embed="rId1"/>
          <a:stretch/>
        </p:blipFill>
        <p:spPr>
          <a:xfrm>
            <a:off x="1127160" y="361800"/>
            <a:ext cx="6873840" cy="5627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The Tet Offensive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2057400" y="2133720"/>
            <a:ext cx="6248520" cy="160020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In January 1968 thousands of NVA and Vietcong troops attacked a U.S. military base in Khe San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This and other rural attacks were diversions to draw U.S. and ARVN forces away from urban a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323640" y="144792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Tet Offe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2057400" y="1295280"/>
            <a:ext cx="624852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A series of massive coordinated attacks throughout South Vietn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531720" y="274320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Khe San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8534520" y="1523880"/>
            <a:ext cx="160200" cy="1605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"/>
          <p:cNvPicPr/>
          <p:nvPr/>
        </p:nvPicPr>
        <p:blipFill>
          <a:blip r:embed="rId2"/>
          <a:stretch/>
        </p:blipFill>
        <p:spPr>
          <a:xfrm>
            <a:off x="8534520" y="2895480"/>
            <a:ext cx="160200" cy="16056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9"/>
          <p:cNvSpPr/>
          <p:nvPr/>
        </p:nvSpPr>
        <p:spPr>
          <a:xfrm>
            <a:off x="2057400" y="3886200"/>
            <a:ext cx="6248520" cy="1981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Main Communist offensive began on January 30, 1968, at the start of Tet, the Vietnamese New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Some 84,000 Communist soldiers attacked 12 U.S. military bases and more than 100 cities across South Vietn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520920" y="4191120"/>
            <a:ext cx="129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The Ma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Att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1" descr=""/>
          <p:cNvPicPr/>
          <p:nvPr/>
        </p:nvPicPr>
        <p:blipFill>
          <a:blip r:embed="rId3"/>
          <a:stretch/>
        </p:blipFill>
        <p:spPr>
          <a:xfrm>
            <a:off x="8458200" y="5181480"/>
            <a:ext cx="171360" cy="171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Effects of the Tet Offensive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77320" cy="41907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General Westmoreland called the Tet Offensive a decisive defeat for the Communis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The cities taken by the Communists were retake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About 45,000 enemy soldiers were killed.  About 1,100 Americans and 2,300 ARVN troops also di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The Communists showed that they were determined to keep on fight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Tet Offensive showed that no part of South Vietnam was safe from attac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Tet Offensive caused many Americans to question whether or not the war in Vietnam could be w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President Johnson announced that he would not seek reelec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hustvwfd_video.wmv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>
            <a:hlinkClick r:id="" action="ppaction://hlinkshowjump?jump=firstslide"/>
          </p:cNvPr>
          <p:cNvSpPr/>
          <p:nvPr/>
        </p:nvSpPr>
        <p:spPr>
          <a:xfrm>
            <a:off x="69343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>
            <a:hlinkClick r:id="" action="ppaction://hlinkshowjump?jump=firstslide"/>
          </p:cNvPr>
          <p:cNvSpPr/>
          <p:nvPr/>
        </p:nvSpPr>
        <p:spPr>
          <a:xfrm>
            <a:off x="6172200" y="6019920"/>
            <a:ext cx="76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Effects of the Tet Offensive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3886200" cy="48765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Growing Doub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Walter Cronkite broadcast a television report in which he gave his personal assessment of the situation in Vietna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Major national magazines such as </a:t>
            </a:r>
            <a:r>
              <a:rPr b="0" i="1" lang="en-US" sz="1800" spc="-1" strike="noStrike">
                <a:solidFill>
                  <a:srgbClr val="ffff99"/>
                </a:solidFill>
                <a:latin typeface="Verdana"/>
              </a:rPr>
              <a:t>Time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 and </a:t>
            </a:r>
            <a:r>
              <a:rPr b="0" i="1" lang="en-US" sz="1800" spc="-1" strike="noStrike">
                <a:solidFill>
                  <a:srgbClr val="ffff99"/>
                </a:solidFill>
                <a:latin typeface="Verdana"/>
              </a:rPr>
              <a:t>Newsweek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 also expressed doubts about the war and began to call for its en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Public criticism of the government’s policies grew louder and more intens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Leaders within Johnson’s administration began to criticize Johnson’s polici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Robert S. McNamara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 began to seek ways to end the w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495320" y="990720"/>
            <a:ext cx="3886200" cy="48765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Democratic Challeng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Roughly 3 out of 4 Americans opposed his policies in Vietna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Minnesota senator </a:t>
            </a: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Eugene McCarthy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 challenged Johnson for the Democratic Party’s nomin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New York senator Robert Kennedy entered the rac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Shaken by the divisions within his party, Johnson announced that he would not seek nor accept the office of the presidenc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8534520" y="342900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"/>
          <p:cNvPicPr/>
          <p:nvPr/>
        </p:nvPicPr>
        <p:blipFill>
          <a:blip r:embed="rId2"/>
          <a:stretch/>
        </p:blipFill>
        <p:spPr>
          <a:xfrm>
            <a:off x="8534520" y="3809880"/>
            <a:ext cx="160200" cy="160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Searching for Solutions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533520" y="1676520"/>
            <a:ext cx="792468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President Johnson denied General Westmoreland’s request for 206,000 more ground soldi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533520" y="2514600"/>
            <a:ext cx="7924680" cy="1435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Johnson’s advisors could not come up with the best course for the war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Robert McNamara suggested limiting the air strikes and reversing the escalation of the w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533520" y="4038480"/>
            <a:ext cx="7924680" cy="1740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Johnson decided to negotiate with the North Vietname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Paris peace talks stalled over two issues:  the United States wanted all NVA troops out of South Vietnam, and North Vietnam would not accept a temporary South Vietnam government that included a U.S.-backed presi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"/>
          <p:cNvPicPr/>
          <p:nvPr/>
        </p:nvPicPr>
        <p:blipFill>
          <a:blip r:embed="rId1"/>
          <a:stretch/>
        </p:blipFill>
        <p:spPr>
          <a:xfrm>
            <a:off x="8534520" y="182880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"/>
          <p:cNvPicPr/>
          <p:nvPr/>
        </p:nvPicPr>
        <p:blipFill>
          <a:blip r:embed="rId2"/>
          <a:stretch/>
        </p:blipFill>
        <p:spPr>
          <a:xfrm>
            <a:off x="8534520" y="320040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"/>
          <p:cNvPicPr/>
          <p:nvPr/>
        </p:nvPicPr>
        <p:blipFill>
          <a:blip r:embed="rId3"/>
          <a:stretch/>
        </p:blipFill>
        <p:spPr>
          <a:xfrm>
            <a:off x="8534520" y="5105520"/>
            <a:ext cx="160200" cy="160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The Election of 1968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76960" cy="38862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The Democratic Primary F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Vice President Hubert Humphrey entered the race and defended the administration’s policies in Vietna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enator Eugene McCarthy called for a rapid end to the w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enator Robert Kennedy also called for an end to the war and won primaries in Indiana, Nebraska, and Californ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Kennedy was shot leaving a Las Angeles hotel by Sirhan Sirhan, a Jordanian immigrant who didn’t like Kennedy’s support for Israe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The Democratic Convention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533520" y="1676520"/>
            <a:ext cx="792468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Delegates at the Democratic National Convention in Chicago debated between McCarthy and Humphr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533520" y="2590920"/>
            <a:ext cx="7924680" cy="1435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Outside the convention, protesters from around the country demanded an immediate end to the w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Chicago mayor Richard Daley sent troops to maintain order but violence soon broke o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533520" y="4267080"/>
            <a:ext cx="7924680" cy="1435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elevision crews captured violent scenes between protesters and pol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chaos was one symptom of a growing “generation gap” over government, politics, and the Vietnam W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1"/>
          <a:stretch/>
        </p:blipFill>
        <p:spPr>
          <a:xfrm>
            <a:off x="8534520" y="182880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2"/>
          <a:stretch/>
        </p:blipFill>
        <p:spPr>
          <a:xfrm>
            <a:off x="8534520" y="320040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"/>
          <p:cNvPicPr/>
          <p:nvPr/>
        </p:nvPicPr>
        <p:blipFill>
          <a:blip r:embed="rId3"/>
          <a:stretch/>
        </p:blipFill>
        <p:spPr>
          <a:xfrm>
            <a:off x="8534520" y="5105520"/>
            <a:ext cx="160200" cy="160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Other Contenders in 1968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3886200" cy="46479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Richard Nix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Republic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Won the nomination at the Republican National Conven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Chose Spiro Agnew as his running m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Appealed to the patriotism of mainstream America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romised “law and order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Claimed to have a secret plan to end the war “with honor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1640" y="1218960"/>
            <a:ext cx="3887640" cy="46479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George Wall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Independ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Former Alabama govern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Nominated by the American Independent Par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Opposed the civil rights movement and school desegregation and war protest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Appealed to conservative Democratic white southerners and working class whi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5" descr=""/>
          <p:cNvPicPr/>
          <p:nvPr/>
        </p:nvPicPr>
        <p:blipFill>
          <a:blip r:embed="rId1"/>
          <a:stretch/>
        </p:blipFill>
        <p:spPr>
          <a:xfrm>
            <a:off x="8534520" y="342900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8534520" y="3809880"/>
            <a:ext cx="160200" cy="160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The Election of 1968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3886200" cy="48765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The Campaig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Nixon led the polls for most of the campaig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Humphrey made gains when he said the bombing in Vietnam should be stopped and that the South Vietnamese should shoulder more of the war’s responsibiliti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he peace talks in Paris made some progress when the North Vietnamese agreed to include South Vietnamese representativ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Johnson announced an end to the bombing in Vietnam a few days before the elec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1640" y="990720"/>
            <a:ext cx="3887640" cy="48765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The Resul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he election was very close—just 510,000 votes separated Nixon and Humphre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Nixon won 43.4 percent of the votes cast to Humphrey’s 42.7 perce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Nixon won 301 electoral votes to Humphrey’s 19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Wallace was one of the most successful third party candidates in U.S. history (46 electoral votes and 13.5 percent of the popular vote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Nixon’s electoral margin provided him with a mandate to rule that allowed him to escalate the war in Vietna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1"/>
          <a:stretch/>
        </p:blipFill>
        <p:spPr>
          <a:xfrm>
            <a:off x="8534520" y="342900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"/>
          <p:cNvPicPr/>
          <p:nvPr/>
        </p:nvPicPr>
        <p:blipFill>
          <a:blip r:embed="rId2"/>
          <a:stretch/>
        </p:blipFill>
        <p:spPr>
          <a:xfrm>
            <a:off x="8534520" y="3809880"/>
            <a:ext cx="160200" cy="16056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12">
            <a:hlinkClick r:id="" action="ppaction://hlinkshowjump?jump=firstslide"/>
          </p:cNvPr>
          <p:cNvSpPr/>
          <p:nvPr/>
        </p:nvSpPr>
        <p:spPr>
          <a:xfrm>
            <a:off x="69343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19-619-map"/>
          <p:cNvPicPr/>
          <p:nvPr/>
        </p:nvPicPr>
        <p:blipFill>
          <a:blip r:embed="rId1"/>
          <a:stretch/>
        </p:blipFill>
        <p:spPr>
          <a:xfrm>
            <a:off x="2362320" y="353880"/>
            <a:ext cx="4387680" cy="56260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>
            <a:hlinkClick r:id="" action="ppaction://hlinkshowjump?jump=firstslide"/>
          </p:cNvPr>
          <p:cNvSpPr/>
          <p:nvPr/>
        </p:nvSpPr>
        <p:spPr>
          <a:xfrm>
            <a:off x="69343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The War Ends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533520" y="1523880"/>
            <a:ext cx="807696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The Main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President Nixon eventually ended U.S. involvement in Vietnam, but the war had lasting effects on the United States and in Southeast As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Reading Foc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How did President Nixon’s policies widen U.S. involvement in the war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How and wbhy did protests against the war increa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How did Nixon achieve an end to U.S. involvement in Vietna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What was the war’s legacy in the United States and in Vietna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>
            <a:hlinkClick r:id="" action="ppaction://hlinkshowjump?jump=firstslide"/>
          </p:cNvPr>
          <p:cNvSpPr/>
          <p:nvPr/>
        </p:nvSpPr>
        <p:spPr>
          <a:xfrm>
            <a:off x="6172200" y="6019920"/>
            <a:ext cx="76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How did President Nixon’s policies widen U.S. involvement in the war?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7732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During his 1968 campaign, Nixon pledged to end the war in Vietna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Nixon and his National Security Advisor </a:t>
            </a: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Henry Kissinger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devised plans to end the wa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In 1969 Kissinger began secret peace negotiations in Paris with North Vietnamese revolutionary Le Duc Th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The U.S. strategy aimed at achieving “peace with honor.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Vietnamiz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Laos and Cambod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Widening the War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3962520" cy="50292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Vietnamiz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Strategy of turning over more of the fighting in Vietnam to the South Vietnamese while gradually bringing U.S. ground troops ho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Nixon hoped this would give South Vietnamese leaders time to create a stable, non-Communist governme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Nixon began to slowly withdraw U.S. forces from South Vietna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Antiwar activists opposed the plan calling for an immediate end to the w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Nixon believed he had the backing of the </a:t>
            </a: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silent majority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 of America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495320" y="838080"/>
            <a:ext cx="4038840" cy="50292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Laos and Cambod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At the same time, Nixon was secretly expanding the w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He ordered the bombing of Cambodia to disrupt the flow of supplies on the Ho Chi Minh trai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Concealed the air strikes from the American people—including members of Congr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Sent U.S. and ARVN troops into Cambodia and into Laos to destroy North Vietnamese army ba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Renewed bombing of North Vietna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Nixon hoped to force North Vietnam to seek peac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1"/>
          <a:stretch/>
        </p:blipFill>
        <p:spPr>
          <a:xfrm>
            <a:off x="8610480" y="320040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"/>
          <p:cNvPicPr/>
          <p:nvPr/>
        </p:nvPicPr>
        <p:blipFill>
          <a:blip r:embed="rId2"/>
          <a:stretch/>
        </p:blipFill>
        <p:spPr>
          <a:xfrm>
            <a:off x="8610480" y="3809880"/>
            <a:ext cx="160560" cy="160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Southeast Asia’s Colonial History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77320" cy="38862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France gained control of Vietnam by 1883 despite fierce resistance from the Vietname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French combined Vietnam with Laos and Cambodia to form French Indochin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Ho Chi Minh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 led a growing nationalist movement in Vietna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During World War II, the Japanese army occupied French Indochin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 group called the League for the Independence of Vietnam, or the </a:t>
            </a: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Vietminh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, fought the Japane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fter World War II, the Vietminh declared independence, but the French quickly moved in to reclaim Vietna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War Protests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076960" cy="41907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In 1970 Nixon announced that he had ordered troops into Cambod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ntiwar protests intensified—especially on college campu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ntiwar protests erupted into viole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Nixon believed that antiwar protesters represented only a minority of America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Radical antiwar groups turned to violent measures to oppose the w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More and more Americans began to oppose the war when they learned about the </a:t>
            </a: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My Lai massacre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 and the </a:t>
            </a: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Pentagon Papers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380880" y="1143000"/>
            <a:ext cx="2508480" cy="48006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Campus Viol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Kent State University in Oh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18288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4 students were killed and 9 inju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Jackson State College in Mississip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18288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2 students were killed and 9 wou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2971800" y="1143000"/>
            <a:ext cx="2819520" cy="480060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Antiwar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Polls showed that fifty percent of Americans opposed the w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Coalition of clergy, trade unionists, and veterans established a nationwide day of protest called Moratorium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250,000 protesters made up the largest antiwar demonstration in U.S. his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Increasing Protests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242" name="Picture 5" descr=""/>
          <p:cNvPicPr/>
          <p:nvPr/>
        </p:nvPicPr>
        <p:blipFill>
          <a:blip r:embed="rId1"/>
          <a:stretch/>
        </p:blipFill>
        <p:spPr>
          <a:xfrm>
            <a:off x="8534520" y="3352680"/>
            <a:ext cx="160200" cy="1605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"/>
          <p:cNvPicPr/>
          <p:nvPr/>
        </p:nvPicPr>
        <p:blipFill>
          <a:blip r:embed="rId2"/>
          <a:stretch/>
        </p:blipFill>
        <p:spPr>
          <a:xfrm>
            <a:off x="8534520" y="2895480"/>
            <a:ext cx="160200" cy="1605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8534520" y="3809880"/>
            <a:ext cx="160200" cy="16056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8"/>
          <p:cNvSpPr/>
          <p:nvPr/>
        </p:nvSpPr>
        <p:spPr>
          <a:xfrm>
            <a:off x="5943600" y="1143000"/>
            <a:ext cx="2514600" cy="48006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Radical Protests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Some antiwar groups turned to violent meas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he Weathermen set off more than 5,000 bombs and carried out the Days of R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Most antiwar protesters did not support extremist groups or terrorist meas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Increasing Protests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4038840" cy="50292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My Lai Massac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roops under Lieutenant William Calley killed at least 450 men, women, and children in the village of My Lai while on a search-and-destroy miss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No Vietcong were found in the villag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he My Lai massacre was kept quiet at first, but former soldiers began talking about i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his atrocity intensified the divisions between war supporters and opponen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Calley was convicted of murder and sentenced to life in prison; he was paroled in 1974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495320" y="838080"/>
            <a:ext cx="4038840" cy="50292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Pentagon Pap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A collection of secret government documents that traced the history of U.S. military involvement in Vietnam since the Truman yea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Revealed that government officials had been misleading the American people about the war for yea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Daniel Ellsberg leaked the papers to the pres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Ellsberg originally supported the war, but then concluded that few South Vietnamese civilians supported the U.S.-backed governme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5" descr=""/>
          <p:cNvPicPr/>
          <p:nvPr/>
        </p:nvPicPr>
        <p:blipFill>
          <a:blip r:embed="rId1"/>
          <a:stretch/>
        </p:blipFill>
        <p:spPr>
          <a:xfrm>
            <a:off x="8610480" y="320040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"/>
          <p:cNvPicPr/>
          <p:nvPr/>
        </p:nvPicPr>
        <p:blipFill>
          <a:blip r:embed="rId2"/>
          <a:stretch/>
        </p:blipFill>
        <p:spPr>
          <a:xfrm>
            <a:off x="8610480" y="3809880"/>
            <a:ext cx="160560" cy="160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U.S. Involvement in Vietnam Ends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1905120" y="2743200"/>
            <a:ext cx="6400800" cy="10666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Lowered the voting age from 21 to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McGovern hoped the ratification of this amendment would boost his election ch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439200" y="1752480"/>
            <a:ext cx="13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Geor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McGov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1905120" y="1523880"/>
            <a:ext cx="6400800" cy="106704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Senator from South Dakota who criticized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Insisted that the Vietnam War be brought to an immediate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297000" y="312408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26</a:t>
            </a:r>
            <a:r>
              <a:rPr b="1" lang="en-US" sz="1800" spc="-1" strike="noStrike" baseline="30000">
                <a:solidFill>
                  <a:srgbClr val="ff9900"/>
                </a:solidFill>
                <a:latin typeface="Verdana"/>
              </a:rPr>
              <a:t>th</a:t>
            </a: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Amend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7" descr=""/>
          <p:cNvPicPr/>
          <p:nvPr/>
        </p:nvPicPr>
        <p:blipFill>
          <a:blip r:embed="rId1"/>
          <a:stretch/>
        </p:blipFill>
        <p:spPr>
          <a:xfrm>
            <a:off x="8458200" y="1981080"/>
            <a:ext cx="160200" cy="1605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"/>
          <p:cNvPicPr/>
          <p:nvPr/>
        </p:nvPicPr>
        <p:blipFill>
          <a:blip r:embed="rId2"/>
          <a:stretch/>
        </p:blipFill>
        <p:spPr>
          <a:xfrm>
            <a:off x="8458200" y="3276720"/>
            <a:ext cx="160200" cy="16020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9"/>
          <p:cNvSpPr/>
          <p:nvPr/>
        </p:nvSpPr>
        <p:spPr>
          <a:xfrm>
            <a:off x="1905120" y="3962520"/>
            <a:ext cx="6400800" cy="1981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Nixon stressed law and order at home and told voters he would end the w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Kissinger announced a breakthrough in the peace talks just weeks before the el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The announcement helped Nixon win by a landsl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0" descr=""/>
          <p:cNvPicPr/>
          <p:nvPr/>
        </p:nvPicPr>
        <p:blipFill>
          <a:blip r:embed="rId3"/>
          <a:stretch/>
        </p:blipFill>
        <p:spPr>
          <a:xfrm>
            <a:off x="8458200" y="4876920"/>
            <a:ext cx="171360" cy="17136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16"/>
          <p:cNvSpPr/>
          <p:nvPr/>
        </p:nvSpPr>
        <p:spPr>
          <a:xfrm>
            <a:off x="514440" y="45720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197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A Peace Agreement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533520" y="1371600"/>
            <a:ext cx="7619760" cy="10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Nixon tried to force North Vietnam to make peace concessions by ordering the so-called Christmas bombing.  It failed to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533520" y="2590920"/>
            <a:ext cx="761976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Officials from North Vietnam, South Vietnam, and the United States finally reached an agreement in January 197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533520" y="3809880"/>
            <a:ext cx="7619760" cy="1923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United States agreed to withdraw all of its troops and help rebuild Vietnam.  Both sides agreed to release all prisoners of w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agreement did not settle the political future of South Vietnam—the key issue behind the war from the sta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6" descr=""/>
          <p:cNvPicPr/>
          <p:nvPr/>
        </p:nvPicPr>
        <p:blipFill>
          <a:blip r:embed="rId1"/>
          <a:stretch/>
        </p:blipFill>
        <p:spPr>
          <a:xfrm>
            <a:off x="8381880" y="205740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"/>
          <p:cNvPicPr/>
          <p:nvPr/>
        </p:nvPicPr>
        <p:blipFill>
          <a:blip r:embed="rId2"/>
          <a:stretch/>
        </p:blipFill>
        <p:spPr>
          <a:xfrm>
            <a:off x="8381880" y="304812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"/>
          <p:cNvPicPr/>
          <p:nvPr/>
        </p:nvPicPr>
        <p:blipFill>
          <a:blip r:embed="rId3"/>
          <a:stretch/>
        </p:blipFill>
        <p:spPr>
          <a:xfrm>
            <a:off x="8381880" y="4419720"/>
            <a:ext cx="160560" cy="160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The Vietnam War’s Legacy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2670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wo years after U.S. troops were withdrawn, North Vietnamese troops invaded South Vietna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fter a short amount of fighting, South Vietnam surrende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The U.S. military rushed to evacuate Americans still working in Saig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Some 130,000 South Vietnamese were also evacuated and flown to the United Stat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fter two decades of “temporary” division, Vietnam was reunited under a Communist govern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In 1975, Communist forces called the Khmer Rouge gained control of Cambod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Vietnam forces invaded Cambodia in 1979, overthrew the Khmer Rouge, and occupied the country till 1989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380880" y="1066680"/>
            <a:ext cx="2584440" cy="48769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Southeast Asia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635,000 South Vietnamese died; Vietcong and NVA war dead equaled 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Severe environmental damage from bombs and defoli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More than 1.5 million South Vietnamese fled the country after the fall of Saig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3048120" y="1066680"/>
            <a:ext cx="2590560" cy="487692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Veter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58,000 Americans were killed; 600 were held as POWs; 2,500 soldiers reported MIA; 300,000 wou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Experienced a negative reception upon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rouble readjusting to civilian life (post-traumatic stress dis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The Legacy of the War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273" name="Picture 5" descr=""/>
          <p:cNvPicPr/>
          <p:nvPr/>
        </p:nvPicPr>
        <p:blipFill>
          <a:blip r:embed="rId1"/>
          <a:stretch/>
        </p:blipFill>
        <p:spPr>
          <a:xfrm>
            <a:off x="8610480" y="3352680"/>
            <a:ext cx="160560" cy="1605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"/>
          <p:cNvPicPr/>
          <p:nvPr/>
        </p:nvPicPr>
        <p:blipFill>
          <a:blip r:embed="rId2"/>
          <a:stretch/>
        </p:blipFill>
        <p:spPr>
          <a:xfrm>
            <a:off x="8610480" y="2895480"/>
            <a:ext cx="160560" cy="1605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"/>
          <p:cNvPicPr/>
          <p:nvPr/>
        </p:nvPicPr>
        <p:blipFill>
          <a:blip r:embed="rId3"/>
          <a:stretch/>
        </p:blipFill>
        <p:spPr>
          <a:xfrm>
            <a:off x="8610480" y="3809880"/>
            <a:ext cx="160560" cy="16056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8"/>
          <p:cNvSpPr/>
          <p:nvPr/>
        </p:nvSpPr>
        <p:spPr>
          <a:xfrm>
            <a:off x="5715000" y="1066680"/>
            <a:ext cx="2743200" cy="48769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Political Impact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United States failed to prevent Communists from taking over South Vietn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Spent more than $150 billion on the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Changed how many Americans viewed 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Congress passed the </a:t>
            </a: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War Powers Act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 in 197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9">
            <a:hlinkClick r:id="" action="ppaction://hlinkshowjump?jump=firstslide"/>
          </p:cNvPr>
          <p:cNvSpPr/>
          <p:nvPr/>
        </p:nvSpPr>
        <p:spPr>
          <a:xfrm>
            <a:off x="69343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19-628-image"/>
          <p:cNvPicPr/>
          <p:nvPr/>
        </p:nvPicPr>
        <p:blipFill>
          <a:blip r:embed="rId1"/>
          <a:stretch/>
        </p:blipFill>
        <p:spPr>
          <a:xfrm>
            <a:off x="1004760" y="1905120"/>
            <a:ext cx="7132680" cy="25826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3">
            <a:hlinkClick r:id="" action="ppaction://hlinkshowjump?jump=firstslide"/>
          </p:cNvPr>
          <p:cNvSpPr/>
          <p:nvPr/>
        </p:nvSpPr>
        <p:spPr>
          <a:xfrm>
            <a:off x="69343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5" descr="19-629-image"/>
          <p:cNvPicPr/>
          <p:nvPr/>
        </p:nvPicPr>
        <p:blipFill>
          <a:blip r:embed="rId1"/>
          <a:stretch/>
        </p:blipFill>
        <p:spPr>
          <a:xfrm>
            <a:off x="2743200" y="384120"/>
            <a:ext cx="4067280" cy="5483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19-630-vs"/>
          <p:cNvPicPr/>
          <p:nvPr/>
        </p:nvPicPr>
        <p:blipFill>
          <a:blip r:embed="rId1"/>
          <a:stretch/>
        </p:blipFill>
        <p:spPr>
          <a:xfrm>
            <a:off x="414360" y="555480"/>
            <a:ext cx="8305920" cy="520092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3">
            <a:hlinkClick r:id="" action="ppaction://hlinkshowjump?jump=firstslide"/>
          </p:cNvPr>
          <p:cNvSpPr/>
          <p:nvPr/>
        </p:nvSpPr>
        <p:spPr>
          <a:xfrm>
            <a:off x="69343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Colonial Vietnam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3886200" cy="46479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Ho Chi Min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Real name is Nguyen That Thanh; </a:t>
            </a: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Ho Chi Minh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means “He Who Enlightens.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articipated in tax revolts against the French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Joined the French Communist Par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Believed that a Communist revolution was a way Vietnam could be free of foreign rul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0" y="1218960"/>
            <a:ext cx="4038480" cy="46479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World War I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Japan occupied French Indochin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Ho Chi Minh organized the </a:t>
            </a: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Vietminh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to fight the Japane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Japan surrendered to the Allies in 1945, and the Vietminh declared Vietnam to be independ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Ho Chi Minh hoped for U.S. support of their independe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he French reclaimed Vietnam after World War I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8610480" y="342900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8610480" y="3809880"/>
            <a:ext cx="160560" cy="160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What policies did Presidents Truman and Eisenhower pursue in Vietnam after WW II</a:t>
            </a: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?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905120" y="3048120"/>
            <a:ext cx="6400800" cy="1752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Communists seized China in 19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Communist North Korea invaded South Korea in 195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Communist-led revolts in Indonesia, Malaya, and the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427680" y="198108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Tru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1905120" y="1600200"/>
            <a:ext cx="640080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Saw Vietnam in terms of the Cold War struggle against commu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Supported France; unwilling to back the Vietminh because many were Commun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510480" y="365760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"/>
          <p:cNvPicPr/>
          <p:nvPr/>
        </p:nvPicPr>
        <p:blipFill>
          <a:blip r:embed="rId1"/>
          <a:stretch/>
        </p:blipFill>
        <p:spPr>
          <a:xfrm>
            <a:off x="8458200" y="236232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"/>
          <p:cNvPicPr/>
          <p:nvPr/>
        </p:nvPicPr>
        <p:blipFill>
          <a:blip r:embed="rId2"/>
          <a:stretch/>
        </p:blipFill>
        <p:spPr>
          <a:xfrm>
            <a:off x="8458200" y="4038480"/>
            <a:ext cx="160200" cy="1605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9"/>
          <p:cNvSpPr/>
          <p:nvPr/>
        </p:nvSpPr>
        <p:spPr>
          <a:xfrm>
            <a:off x="1905120" y="4876920"/>
            <a:ext cx="640080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Believed in the </a:t>
            </a:r>
            <a:r>
              <a:rPr b="1" lang="en-US" sz="1800" spc="-1" strike="noStrike">
                <a:solidFill>
                  <a:srgbClr val="003300"/>
                </a:solidFill>
                <a:latin typeface="Verdana"/>
              </a:rPr>
              <a:t>domino theory</a:t>
            </a: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Sent arms, ammunition, supplies, and money to the French forces in Vietn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315000" y="510552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Eisenh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"/>
          <p:cNvPicPr/>
          <p:nvPr/>
        </p:nvPicPr>
        <p:blipFill>
          <a:blip r:embed="rId3"/>
          <a:stretch/>
        </p:blipFill>
        <p:spPr>
          <a:xfrm>
            <a:off x="8458200" y="5181480"/>
            <a:ext cx="171360" cy="171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Vietnam after World War II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3886200" cy="48765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The Domino The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Domino theory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—the belief that communism would spread to neighboring countries if Vietnam fell to communis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o avoid this, the United States supported the French during the Vietnam W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By 1954 the United States was paying more than 75 percent of the cost of the w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he French continued to lose battle after batt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Vietminh used guerrilla tactics effectivel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1640" y="990720"/>
            <a:ext cx="3887640" cy="48765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France Defea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French soldiers made a last stand at </a:t>
            </a: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Dien Bien Phu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French forces hoped for a U.S. rescue, but Eisenhower did not want to send U.S. soldiers to Asia so soon after Kore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he French surrendered on May 7, 1954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After eight years of fighting, the two sides had lost nearly 300,000 soldi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he Vietminh had learned how to fight a guerilla war against an enemy with superior weapons and technolog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8534520" y="342900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8534520" y="3809880"/>
            <a:ext cx="160200" cy="160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The Geneva Conference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533520" y="1143000"/>
            <a:ext cx="761976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goal of the </a:t>
            </a: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Geneva Conference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 was to work out a peace agreement and arrange for Indochina’s fu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533520" y="2057400"/>
            <a:ext cx="7619760" cy="1618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ccording to the Geneva Accords, Vietnam was temporarily divided at the 17</a:t>
            </a:r>
            <a:r>
              <a:rPr b="0" lang="en-US" sz="2000" spc="-1" strike="noStrike" baseline="30000">
                <a:solidFill>
                  <a:srgbClr val="0033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 parall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Vietminh forces controlled the North and the French would withdraw from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533520" y="3962520"/>
            <a:ext cx="7619760" cy="1923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General elections were to be held in July 1956 and would reunify the country under one govern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United States never fully supported the peace agreements fearing that Ho Chi Minh and the Communists would win the nationwide el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8381880" y="144792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2"/>
          <a:stretch/>
        </p:blipFill>
        <p:spPr>
          <a:xfrm>
            <a:off x="8381880" y="281952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"/>
          <p:cNvPicPr/>
          <p:nvPr/>
        </p:nvPicPr>
        <p:blipFill>
          <a:blip r:embed="rId3"/>
          <a:stretch/>
        </p:blipFill>
        <p:spPr>
          <a:xfrm>
            <a:off x="8381880" y="5105520"/>
            <a:ext cx="160560" cy="160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Conflict between North Vietnam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and South Vietnam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077320" cy="3581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President Eisenhower hoped to prevent communism from spreading to South Vietna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outh Vietnam’s leader was </a:t>
            </a: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Ngo Dinh Diem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North Vietnam’s leader was Ho Chi Mihn</a:t>
            </a: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While Ho Chi Minh became more and more popular in North Vietnam, Ngo Dinh Diem’s corrupt and brutal leadership began to anger many South Vietname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By the late 1950s a civil war broke out in South Vietna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nd by 1960, Ho Chi Minh expanded the effort to unify North and South Vietnam under a Communist govern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8:32:35Z</dcterms:created>
  <dc:creator>Information Technology</dc:creator>
  <dc:description/>
  <dc:language>en-US</dc:language>
  <cp:lastModifiedBy>Sacerdote, Kevin R.</cp:lastModifiedBy>
  <cp:lastPrinted>2005-02-01T16:21:45Z</cp:lastPrinted>
  <dcterms:modified xsi:type="dcterms:W3CDTF">2013-11-08T13:51:57Z</dcterms:modified>
  <cp:revision>96</cp:revision>
  <dc:subject/>
  <dc:title>PowerPoint Presentation</dc:title>
</cp:coreProperties>
</file>