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A9F6-E3AF-45DF-89DC-AB7801B77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02AD-0382-45E8-B952-B2F0483BF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FB02-AF83-4BC8-B64A-5141EE0DC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1E6C-FE41-4443-B91C-4A8D86255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DF1D-0F5A-4E69-A431-719E54690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F741-0B54-4FFA-8C8F-C6EA077C2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AB38-74AD-459B-BC61-DCD21BBA8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E0C0-BD33-47B6-804A-842358F77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150F-F6E5-46EF-A3F6-576FFB224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77A2-B37D-41AD-92BA-512051710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1D8E-2001-4C8A-80EE-5D4F01211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14B3-149F-4A53-9FBD-7141F70BC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F0ED-D608-4BEE-8F5C-867FF3F3A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4441-0D6C-4598-ABCB-00941F44C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7FE3-2438-47CD-9E77-133873FD2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55C9-66A4-4F60-BD93-18B391CB0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AEDA-B31A-4BE5-93AD-5332F6C4B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88A2-AE66-4E9F-BC64-6DEA9B8BE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0CC9-BEAA-4C62-883D-28F635CD0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1C66-0508-4477-ADFA-ABA694DEA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93D0-98E1-4428-8CDA-8819CB3D1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82DC-34DB-455B-8587-B6BBE6C36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89E2-4D5D-4725-ADB9-16A79DA1B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787E-E3C7-4D11-B0FE-4F263A8DC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D80F-428A-4506-B252-3BDD57A8E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8AE4-3A7D-4558-B91A-B173CCC4F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B918-91BD-4A75-BA76-E78676AF5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5EF5-D138-4D13-A1A4-2F4256E19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B792-C3E4-4884-BBDE-63DA7F29F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A179-DB8D-4143-B5F9-CE4385D23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80BA-40F6-4569-A492-82DDEA487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6364-DEC4-4EF5-88CA-F6F61D4CC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A08F-FA67-43FD-A362-063451B41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0FA0-F567-4016-87CF-4D462EE07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9493-A2AF-413D-9271-0A7C8745B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6775-E82A-45FF-8794-CE20131B6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F769-4899-4A02-B9D0-CC17FE6B2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EE17-087B-4947-91AB-BD20C7FF3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Rectangle 7">
            <a:hlinkClick r:id="" action="ppaction://hlinkshowjump?jump=firstslide"/>
          </p:cNvPr>
          <p:cNvSpPr/>
          <p:nvPr/>
        </p:nvSpPr>
        <p:spPr>
          <a:xfrm>
            <a:off x="8305920" y="6095880"/>
            <a:ext cx="68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>
            <a:hlinkClick r:id="" action="ppaction://hlinkshowjump?jump=endshow"/>
          </p:cNvPr>
          <p:cNvSpPr/>
          <p:nvPr/>
        </p:nvSpPr>
        <p:spPr>
          <a:xfrm>
            <a:off x="76201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>
            <a:hlinkClick r:id="" action="ppaction://hlinkshowjump?jump=nex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16.xml"/><Relationship Id="rId4" Type="http://schemas.openxmlformats.org/officeDocument/2006/relationships/slide" Target="slide26.xml"/><Relationship Id="rId5" Type="http://schemas.openxmlformats.org/officeDocument/2006/relationships/slide" Target="slide37.xm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" Target="slide3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" Target="slide23.xml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04920" y="685800"/>
            <a:ext cx="853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hapter 19 – The Vietnam W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1066680" y="1352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ection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"/>
          <p:cNvPicPr/>
          <p:nvPr/>
        </p:nvPicPr>
        <p:blipFill>
          <a:blip r:embed="rId1"/>
          <a:stretch/>
        </p:blipFill>
        <p:spPr>
          <a:xfrm>
            <a:off x="762120" y="1886040"/>
            <a:ext cx="152280" cy="147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066680" y="1733400"/>
            <a:ext cx="38102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The War Devel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U.S. Support of the War at Home and Ab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1968: A Turning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5" action="ppaction://hlinksldjump"/>
              </a:rPr>
              <a:t>The War 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6" descr=""/>
          <p:cNvPicPr/>
          <p:nvPr/>
        </p:nvPicPr>
        <p:blipFill>
          <a:blip r:embed="rId6"/>
          <a:stretch/>
        </p:blipFill>
        <p:spPr>
          <a:xfrm>
            <a:off x="762120" y="2114640"/>
            <a:ext cx="152280" cy="1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"/>
          <p:cNvPicPr/>
          <p:nvPr/>
        </p:nvPicPr>
        <p:blipFill>
          <a:blip r:embed="rId7"/>
          <a:stretch/>
        </p:blipFill>
        <p:spPr>
          <a:xfrm>
            <a:off x="762120" y="2576520"/>
            <a:ext cx="152280" cy="147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0"/>
          <p:cNvSpPr/>
          <p:nvPr/>
        </p:nvSpPr>
        <p:spPr>
          <a:xfrm>
            <a:off x="4800600" y="1352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4800600" y="1733400"/>
            <a:ext cx="4038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8" action="ppaction://hlinksldjump"/>
              </a:rPr>
              <a:t>The Vietnam W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0"/>
          <p:cNvSpPr/>
          <p:nvPr/>
        </p:nvSpPr>
        <p:spPr>
          <a:xfrm>
            <a:off x="4419720" y="39625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4800600" y="4308480"/>
            <a:ext cx="40384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9" action="ppaction://hlinksldjump"/>
              </a:rPr>
              <a:t>9</a:t>
            </a:r>
            <a:r>
              <a:rPr b="0" lang="en-US" sz="1600" spc="-1" strike="noStrike" u="sng" baseline="30000">
                <a:solidFill>
                  <a:srgbClr val="ffff99"/>
                </a:solidFill>
                <a:uFillTx/>
                <a:latin typeface="Verdana"/>
                <a:hlinkClick r:id="rId10" action="ppaction://hlinksldjump"/>
              </a:rPr>
              <a:t>th</a:t>
            </a:r>
            <a:r>
              <a:rPr b="0" lang="en-US" sz="1600" spc="-1" strike="noStrike" u="sng" baseline="30000">
                <a:solidFill>
                  <a:srgbClr val="ffff99"/>
                </a:solidFill>
                <a:uFillTx/>
                <a:latin typeface="Verdana"/>
                <a:hlinkClick r:id="rId11" action="ppaction://hlinksldjump"/>
              </a:rPr>
              <a:t> Calvary in Vietn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  <a:hlinkClick r:id="rId12" action="ppaction://hlinksldjump"/>
              </a:rPr>
              <a:t>U.S. Forces in Vietnam, 1965 – 19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Tet Offensive Casua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Political Cartoon: Vietnam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762120" y="4387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Quick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9"/>
          <p:cNvSpPr/>
          <p:nvPr/>
        </p:nvSpPr>
        <p:spPr>
          <a:xfrm>
            <a:off x="1066680" y="474336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Causes of the Vietnam W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Visual Summary: The Vietnam W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2"/>
          <p:cNvSpPr/>
          <p:nvPr/>
        </p:nvSpPr>
        <p:spPr>
          <a:xfrm>
            <a:off x="449568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4800600" y="2819520"/>
            <a:ext cx="419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Indochina, 19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The Vietnam Conflict, 1964 – 19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The Election of 196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9" descr=""/>
          <p:cNvPicPr/>
          <p:nvPr/>
        </p:nvPicPr>
        <p:blipFill>
          <a:blip r:embed="rId13"/>
          <a:stretch/>
        </p:blipFill>
        <p:spPr>
          <a:xfrm>
            <a:off x="426960" y="1352520"/>
            <a:ext cx="6098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1" descr=""/>
          <p:cNvPicPr/>
          <p:nvPr/>
        </p:nvPicPr>
        <p:blipFill>
          <a:blip r:embed="rId14"/>
          <a:stretch/>
        </p:blipFill>
        <p:spPr>
          <a:xfrm>
            <a:off x="4295880" y="2590920"/>
            <a:ext cx="460440" cy="460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5" descr=""/>
          <p:cNvPicPr/>
          <p:nvPr/>
        </p:nvPicPr>
        <p:blipFill>
          <a:blip r:embed="rId15"/>
          <a:stretch/>
        </p:blipFill>
        <p:spPr>
          <a:xfrm>
            <a:off x="4272120" y="3981600"/>
            <a:ext cx="509400" cy="59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5" descr=""/>
          <p:cNvPicPr/>
          <p:nvPr/>
        </p:nvPicPr>
        <p:blipFill>
          <a:blip r:embed="rId16"/>
          <a:stretch/>
        </p:blipFill>
        <p:spPr>
          <a:xfrm>
            <a:off x="4191120" y="1352520"/>
            <a:ext cx="671400" cy="61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6" descr=""/>
          <p:cNvPicPr/>
          <p:nvPr/>
        </p:nvPicPr>
        <p:blipFill>
          <a:blip r:embed="rId17"/>
          <a:stretch/>
        </p:blipFill>
        <p:spPr>
          <a:xfrm>
            <a:off x="395280" y="4373640"/>
            <a:ext cx="671400" cy="582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8"/>
          <p:cNvSpPr/>
          <p:nvPr/>
        </p:nvSpPr>
        <p:spPr>
          <a:xfrm>
            <a:off x="7621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History Clos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9"/>
          <p:cNvSpPr/>
          <p:nvPr/>
        </p:nvSpPr>
        <p:spPr>
          <a:xfrm>
            <a:off x="1066680" y="370836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Vietcong Tu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0" descr=""/>
          <p:cNvPicPr/>
          <p:nvPr/>
        </p:nvPicPr>
        <p:blipFill>
          <a:blip r:embed="rId18"/>
          <a:stretch/>
        </p:blipFill>
        <p:spPr>
          <a:xfrm>
            <a:off x="471600" y="3408480"/>
            <a:ext cx="519120" cy="477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9" descr=""/>
          <p:cNvPicPr/>
          <p:nvPr/>
        </p:nvPicPr>
        <p:blipFill>
          <a:blip r:embed="rId19"/>
          <a:stretch/>
        </p:blipFill>
        <p:spPr>
          <a:xfrm>
            <a:off x="762120" y="2805120"/>
            <a:ext cx="152280" cy="1476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4">
            <a:hlinkClick r:id="" action="ppaction://hlinkshowjump?jump=endshow"/>
          </p:cNvPr>
          <p:cNvSpPr/>
          <p:nvPr/>
        </p:nvSpPr>
        <p:spPr>
          <a:xfrm>
            <a:off x="8305920" y="6095880"/>
            <a:ext cx="68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5">
            <a:hlinkClick r:id="" action="ppaction://hlinkshowjump?jump=nex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6">
            <a:hlinkClick r:id="" action="ppaction://hlinkshowjump?jump=endshow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19-599-map"/>
          <p:cNvPicPr/>
          <p:nvPr/>
        </p:nvPicPr>
        <p:blipFill>
          <a:blip r:embed="rId1"/>
          <a:stretch/>
        </p:blipFill>
        <p:spPr>
          <a:xfrm>
            <a:off x="2832120" y="345960"/>
            <a:ext cx="3492360" cy="5629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Growing Conflict in Vietnam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388620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Vietnam’s Lea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Verdana"/>
              </a:rPr>
              <a:t>Ngo Dinh Diem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became the president of South Vietnam in 195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iem’s government was corrupt, brutal, and unpopular from the star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e favored Catholics and the wealth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iem cancelled the 1956 election that would unify Vietnam under one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Verdana"/>
              </a:rPr>
              <a:t>Ho Chi Minh’s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leadership in North Vietnam was totalitarian and repressi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e gave land to peasants, which made him popul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1640" y="914400"/>
            <a:ext cx="388764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A Civil W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iem’s opponents in South Vietnam began to revol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orth Vietnam supplied weapons to Vietminh rebels in South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Vietminh in South Vietnam formed the National Liberation Front and called their military forces the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Vietco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Vietcong assassinated many South Vietnamese leaders and soon controlled much of the countrys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In 1960 Ho Chi Minh sent the North Vietnamese Army into the country to fight with the Vietco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U.S. Involvement in Vietnam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905120" y="3048120"/>
            <a:ext cx="640080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elieved in the Domino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Increased the number of military advisors and army special forces, or Green Ber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dvisors were not to take part in combat, but many 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15000" y="19810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Eisenh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905120" y="1600200"/>
            <a:ext cx="640080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egan sending money and weapons to South 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ilitary advisors sent to train South Vietnamese ar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89080" y="36576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Kenn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8458200" y="23623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>
            <a:off x="8458200" y="40384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1905120" y="4876920"/>
            <a:ext cx="640080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elieved an expanded U.S. effort was the only way to prevent a Communist victory in Vietn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sked Congress to pass the Tonkin Gulf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00240" y="50292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Joh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"/>
          <p:cNvPicPr/>
          <p:nvPr/>
        </p:nvPicPr>
        <p:blipFill>
          <a:blip r:embed="rId3"/>
          <a:stretch/>
        </p:blipFill>
        <p:spPr>
          <a:xfrm>
            <a:off x="8458200" y="5181480"/>
            <a:ext cx="171360" cy="171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creasing U.S. Involvement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388620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Diem’s Overthr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iem’s government continued to grow more and more unpopul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e arrested and killed Buddhist protes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U.S. leaders said they would withdraw support if Diem did not change his way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iem refused to change his stand against Buddhists, and the United States began to support a plot to overthrow Di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In November 1963 the South Vietnamese plotters murdered Di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1640" y="1218960"/>
            <a:ext cx="388764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onkin Gulf 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o increase the American military effort in Vietnam, Johnson needed to obtain authority from Congr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Johnson asked Congress for this authority claiming that the USS</a:t>
            </a: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 Maddox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had been attacked by North Vietnamese torpedo boats in the Gulf of Tonki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Johnson claimed this attack was unprovoked, but really the </a:t>
            </a: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Maddox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had been on a spying mission and had fired fir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Tonkin Gulf Resolution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was passed on August 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2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19-594-595-image"/>
          <p:cNvPicPr/>
          <p:nvPr/>
        </p:nvPicPr>
        <p:blipFill>
          <a:blip r:embed="rId1"/>
          <a:stretch/>
        </p:blipFill>
        <p:spPr>
          <a:xfrm>
            <a:off x="352440" y="455760"/>
            <a:ext cx="8410680" cy="5487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9-602-qf"/>
          <p:cNvPicPr/>
          <p:nvPr/>
        </p:nvPicPr>
        <p:blipFill>
          <a:blip r:embed="rId1"/>
          <a:stretch/>
        </p:blipFill>
        <p:spPr>
          <a:xfrm>
            <a:off x="2575080" y="382680"/>
            <a:ext cx="3973320" cy="55814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U.S. Support of the War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 at Home and Abroad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33520" y="1523880"/>
            <a:ext cx="807696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Main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s the United States sent increasing numbers of troops to defend South Vietnam, some Americans began to question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y did U.S. superiority in the air war fail to win quickly in Vietnam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made the ground war in Vietnam so difficult to f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were U.S. forces mobilized for the w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and why did public opinion about the war gradually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80880" y="1447920"/>
            <a:ext cx="258444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Operation Rolling Thunder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 bombing campaign over North 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ombed military targets—army bases and airfields—as well as bridges, roads, railways, and power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ain target was the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Ho Chi Minh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048120" y="1447920"/>
            <a:ext cx="2590560" cy="44956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Weapons of the Air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gent Orange—defoliant, or chemical, that destroys vege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apalm—jellied form of gasoline used to create firebo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luster bombs”—sprayed sharp metal fragments when explo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Why did U.S. superiority in the air war fail to win quickly in Vietnam?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8610480" y="33526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8610480" y="28954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3"/>
          <a:stretch/>
        </p:blipFill>
        <p:spPr>
          <a:xfrm>
            <a:off x="8610480" y="3809880"/>
            <a:ext cx="160560" cy="1605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>
            <a:off x="5715000" y="1447920"/>
            <a:ext cx="281952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The Air War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ombing did not succ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Flow of goods from North to South Vietnam actually incr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Vietcong repaired bridges, had bunkers underground, and used weapons from the Soviet Union and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Difficult Ground War in Vietnam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441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number of U.S. ground forces in Vietnam continued to gro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U.S. strategy called for ground forces to go on search-and-destroy miss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General </a:t>
            </a: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William Westmoreland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 commanded the U.S. ground troops in South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Ground troops located the enemy and called for air strik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reas that were “cleared” rarely remained that way for lo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U.S. forces implemented a program of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pacification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to “win the hearts and minds” of the South Vietnamese peop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Nonmilitary pacification involved construction projec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ilitary pacification involved moving people out of their villages when Vietcong were nearb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Declining Troop Moral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472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merican forces in Vietnam faced many challen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Vietcong struck and then melted back into the jun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Vietnamese peasants seemed peaceful during the day, but at night aided or became Vietco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Vietcong knew the local geograph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Nearly impossible to tell the difference between a Vietcong fighter and a civilia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Enormous casualties inflicted upon the Communist forces did not lead to victo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ith the aid of the Soviet Union and China, North Vietnam sent a steady stream of supplies and soldiers to the Sout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Vietcong continued to refill their ranks with civilia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U.S. air strikes and the pacification program turned many peasants into Vietcong figh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War Develop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33520" y="1295280"/>
            <a:ext cx="8076960" cy="44960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Main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Concern about the spread of communism led the United States to become increasingly violent in Vietn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did Southeast Asia’s colonial history produce increased tensions in Vietnam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policies did Presidents Truman and Eisenhower pursue in Vietnam after World War I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events and conditions caused growing conflicts between North Vietnam and South Vietn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y did Presidents Kennedy and Johnson increase U.S. involvement in Vietn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19-607-closeup"/>
          <p:cNvPicPr/>
          <p:nvPr/>
        </p:nvPicPr>
        <p:blipFill>
          <a:blip r:embed="rId1"/>
          <a:stretch/>
        </p:blipFill>
        <p:spPr>
          <a:xfrm>
            <a:off x="2286000" y="349200"/>
            <a:ext cx="4579920" cy="5624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U.S. Forces Mobilize for the War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33520" y="1447920"/>
            <a:ext cx="7772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ore than 2.5 million Americans served in the Vietnam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33520" y="2438280"/>
            <a:ext cx="7772400" cy="131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n average, the soldiers who served in Vietnam w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lightly younger than the U.S. troops who fought in Korea and World War II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ot as well educ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33520" y="3962520"/>
            <a:ext cx="777240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t the start of the war, most American troops were professional soldiers—volunteers who enlisted in the armed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However, the U.S. government came to depend on drafted sold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8534520" y="17524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8534520" y="32767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3"/>
          <a:stretch/>
        </p:blipFill>
        <p:spPr>
          <a:xfrm>
            <a:off x="8534520" y="4876920"/>
            <a:ext cx="16020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U.S. Forces Mobiliz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3886200" cy="4952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he Dra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25 percent were excused for health reasons; 30 percent received deferments, or postponements of servi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ollege students were deferred, so men from higher-income families were less likely to serv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 high percentage of combat soldiers were African America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 draft lottery began in 1969; the draft ended in 197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3 percent of eligible men escaped the draft by either refusing to register or by leaving the United Sta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95320" y="914400"/>
            <a:ext cx="3886200" cy="4952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Non-combat Pos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ost Americans in Vietnam served in non-combat positions—administration, communications, engineering, medical care, and transport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bout 10,000 American military women serv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ome 20,000 to 45,000 more women worked in civilian capacities, many as volunteers for the Red Cross or other humanitarian relief organiza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19-609-image"/>
          <p:cNvPicPr/>
          <p:nvPr/>
        </p:nvPicPr>
        <p:blipFill>
          <a:blip r:embed="rId1"/>
          <a:stretch/>
        </p:blipFill>
        <p:spPr>
          <a:xfrm>
            <a:off x="2209680" y="412920"/>
            <a:ext cx="458784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04920" y="1447920"/>
            <a:ext cx="266688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Media’s Impact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Reporters and television crews went on patrol with the soldi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elevision brought scenes of firefights and burning villages into America’s living ro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riticized the government’s reports about the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8120" y="1447920"/>
            <a:ext cx="2666880" cy="44956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Hawks and Do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Doves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—people opposed to the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Hawks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—people who supported the war’s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oth criticized the war eff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awks wanted more troops and bomb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oves opposed the war for many rea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Public Opinion Regarding the Vietnam War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8678880" y="33526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8678880" y="28954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8678880" y="38098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5791320" y="1447920"/>
            <a:ext cx="289548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Antiwar Movement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ovement attracted a broad range of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uch antiwar activity took place on college campu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ost vocal group—Students for a Democratic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ntiwar protesters made up a small percentage of the U.S.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Reasons that Doves Opposed the War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Vietnam was not crucial to American national security (Ex. George Kenn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the United States was fighting against the wishes of a majority of Vietnamese (Ex. Dr. Benjamin Spoc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the war was draining needed resources from Great Society programs (Ex. Martin Luther King Jr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it was unfair for African Americans to fight for democracy in a foreign land when discrimination continued at home (Ex. Civil rights activis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Johnson’s policies were too extreme (Ex.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J. William Fulbright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9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1968: A Turning Point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33520" y="1447920"/>
            <a:ext cx="8076960" cy="4343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Main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s the Vietnam War dragged on and increasingly appeared to be unwinnable, deep divisions developed in American socie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was the Tet Offensi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were the effects of the Tet Offens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did President Johnson try to find a solution to the w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did the election of 1968 illustrate divisions in American socie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9-613-map"/>
          <p:cNvPicPr/>
          <p:nvPr/>
        </p:nvPicPr>
        <p:blipFill>
          <a:blip r:embed="rId1"/>
          <a:stretch/>
        </p:blipFill>
        <p:spPr>
          <a:xfrm>
            <a:off x="1127160" y="361800"/>
            <a:ext cx="6873840" cy="5627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Tet Offensiv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2057400" y="2133720"/>
            <a:ext cx="6248520" cy="16002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In January 1968 thousands of NVA and Vietcong troops attacked a U.S. military base in Khe San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is and other rural attacks were diversions to draw U.S. and ARVN forces away from urban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23640" y="144792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Tet Off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2057400" y="1295280"/>
            <a:ext cx="62485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 series of massive coordinated attacks throughout South 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531720" y="27432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Khe Sa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8534520" y="15238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"/>
          <p:cNvPicPr/>
          <p:nvPr/>
        </p:nvPicPr>
        <p:blipFill>
          <a:blip r:embed="rId2"/>
          <a:stretch/>
        </p:blipFill>
        <p:spPr>
          <a:xfrm>
            <a:off x="8534520" y="28954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2057400" y="3886200"/>
            <a:ext cx="624852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ain Communist offensive began on January 30, 1968, at the start of Tet, the Vietnamese New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ome 84,000 Communist soldiers attacked 12 U.S. military bases and more than 100 cities across South Vietn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520920" y="4191120"/>
            <a:ext cx="129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The M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1" descr=""/>
          <p:cNvPicPr/>
          <p:nvPr/>
        </p:nvPicPr>
        <p:blipFill>
          <a:blip r:embed="rId3"/>
          <a:stretch/>
        </p:blipFill>
        <p:spPr>
          <a:xfrm>
            <a:off x="8458200" y="5181480"/>
            <a:ext cx="171360" cy="171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Effects of the Tet Offensiv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4190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General Westmoreland called the Tet Offensive a decisive defeat for the Communi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cities taken by the Communists were retak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bout 45,000 enemy soldiers were killed.  About 1,100 Americans and 2,300 ARVN troops also di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Communists showed that they were determined to keep on figh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Tet Offensive showed that no part of South Vietnam was safe from attac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Tet Offensive caused many Americans to question whether or not the war in Vietnam could be w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esident Johnson announced that he would not seek reele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hustvwfd_video.wmv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Effects of the Tet Offensiv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8620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Growing Doub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Walter Cronkite broadcast a television report in which he gave his personal assessment of the situation in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ajor national magazines such as </a:t>
            </a: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Time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and </a:t>
            </a: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Newsweek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also expressed doubts about the war and began to call for its e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Public criticism of the government’s policies grew louder and more inten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Leaders within Johnson’s administration began to criticize Johnson’s polic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Robert S. McNamara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began to seek ways to end the w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95320" y="990720"/>
            <a:ext cx="388620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Democratic Challeng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Roughly 3 out of 4 Americans opposed his policies in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innesota senator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Eugene McCarthy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challenged Johnson for the Democratic Party’s nomin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ew York senator Robert Kennedy entered the ra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haken by the divisions within his party, Johnson announced that he would not seek nor accept the office of the presidenc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Searching for Solution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533520" y="1676520"/>
            <a:ext cx="79246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esident Johnson denied General Westmoreland’s request for 206,000 more ground sold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33520" y="2514600"/>
            <a:ext cx="7924680" cy="143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Johnson’s advisors could not come up with the best course for the war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obert McNamara suggested limiting the air strikes and reversing the escalation of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33520" y="4038480"/>
            <a:ext cx="7924680" cy="1740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Johnson decided to negotiate with the North Vietname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Paris peace talks stalled over two issues:  the United States wanted all NVA troops out of South Vietnam, and North Vietnam would not accept a temporary South Vietnam government that included a U.S.-backed pres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8534520" y="18288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8534520" y="32004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3"/>
          <a:stretch/>
        </p:blipFill>
        <p:spPr>
          <a:xfrm>
            <a:off x="8534520" y="5105520"/>
            <a:ext cx="16020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Election of 1968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The Democratic Primary F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Vice President Hubert Humphrey entered the race and defended the administration’s policies in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nator Eugene McCarthy called for a rapid end to the w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nator Robert Kennedy also called for an end to the war and won primaries in Indiana, Nebraska, and Californ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Kennedy was shot leaving a Las Angeles hotel by Sirhan Sirhan, a Jordanian immigrant who didn’t like Kennedy’s support for Israe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Democratic Convention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33520" y="1676520"/>
            <a:ext cx="79246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Delegates at the Democratic National Convention in Chicago debated between McCarthy and Humphr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33520" y="2590920"/>
            <a:ext cx="7924680" cy="143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utside the convention, protesters from around the country demanded an immediate end to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Chicago mayor Richard Daley sent troops to maintain order but violence soon broke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533520" y="4267080"/>
            <a:ext cx="7924680" cy="143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elevision crews captured violent scenes between protesters and pol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chaos was one symptom of a growing “generation gap” over government, politics, and the Vietnam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8534520" y="18288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2"/>
          <a:stretch/>
        </p:blipFill>
        <p:spPr>
          <a:xfrm>
            <a:off x="8534520" y="32004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3"/>
          <a:stretch/>
        </p:blipFill>
        <p:spPr>
          <a:xfrm>
            <a:off x="8534520" y="5105520"/>
            <a:ext cx="16020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Other Contenders in 1968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388620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Richard Nix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Republic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on the nomination at the Republican National Conven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hose Spiro Agnew as his running m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ppealed to the patriotism of mainstream Americ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omised “law and orde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laimed to have a secret plan to end the war “with hono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1640" y="1218960"/>
            <a:ext cx="388764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George Wall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ndepend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Former Alabama gover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Nominated by the American Independent Par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Opposed the civil rights movement and school desegregation and war protes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ppealed to conservative Democratic white southerners and working class whi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Election of 1968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8620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he Campa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led the polls for most of the campaig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umphrey made gains when he said the bombing in Vietnam should be stopped and that the South Vietnamese should shoulder more of the war’s responsibilit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peace talks in Paris made some progress when the North Vietnamese agreed to include South Vietnamese representativ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Johnson announced an end to the bombing in Vietnam a few days before the elec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1640" y="990720"/>
            <a:ext cx="388764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he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election was very close—just 510,000 votes separated Nixon and Humphre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won 43.4 percent of the votes cast to Humphrey’s 42.7 perc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won 301 electoral votes to Humphrey’s 19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Wallace was one of the most successful third party candidates in U.S. history (46 electoral votes and 13.5 percent of the popular vote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’s electoral margin provided him with a mandate to rule that allowed him to escalate the war in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2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9-619-map"/>
          <p:cNvPicPr/>
          <p:nvPr/>
        </p:nvPicPr>
        <p:blipFill>
          <a:blip r:embed="rId1"/>
          <a:stretch/>
        </p:blipFill>
        <p:spPr>
          <a:xfrm>
            <a:off x="2362320" y="353880"/>
            <a:ext cx="4387680" cy="56260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War End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33520" y="1523880"/>
            <a:ext cx="807696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Main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esident Nixon eventually ended U.S. involvement in Vietnam, but the war had lasting effects on the United States and in Southeast A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did President Nixon’s policies widen U.S. involvement in the wa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and wbhy did protests against the war increa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ow did Nixon achieve an end to U.S. involvement in Vietn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at was the war’s legacy in the United States and in Vietn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How did President Nixon’s policies widen U.S. involvement in the war?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During his 1968 campaign, Nixon pledged to end the war in Vietna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Nixon and his National Security Advisor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Henry Kissinger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devised plans to end the w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In 1969 Kissinger began secret peace negotiations in Paris with North Vietnamese revolutionary Le Duc Th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The U.S. strategy aimed at achieving “peace with honor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Vietnam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Laos and Cambod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Widening the War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396252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Vietnam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trategy of turning over more of the fighting in Vietnam to the South Vietnamese while gradually bringing U.S. ground troops ho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hoped this would give South Vietnamese leaders time to create a stable, non-Communist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began to slowly withdraw U.S. forces from South Viet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ntiwar activists opposed the plan calling for an immediate end to the w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believed he had the backing of the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silent majority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of America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95320" y="838080"/>
            <a:ext cx="403884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Laos and Cambod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t the same time, Nixon was secretly expanding the w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e ordered the bombing of Cambodia to disrupt the flow of supplies on the Ho Chi Minh tra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oncealed the air strikes from the American people—including members of Congr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ent U.S. and ARVN troops into Cambodia and into Laos to destroy North Vietnamese army ba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Renewed bombing of North Vietn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ixon hoped to force North Vietnam to seek pea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8610480" y="32004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2"/>
          <a:stretch/>
        </p:blipFill>
        <p:spPr>
          <a:xfrm>
            <a:off x="8610480" y="3809880"/>
            <a:ext cx="16056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Southeast Asia’s Colonial History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7732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rance gained control of Vietnam by 1883 despite fierce resistance from the Vietname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French combined Vietnam with Laos and Cambodia to form French Indoch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Ho Chi Minh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led a growing nationalist movement in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During World War II, the Japanese army occupied French Indoch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group called the League for the Independence of Vietnam, or the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Vietminh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, fought the Japane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fter World War II, the Vietminh declared independence, but the French quickly moved in to reclaim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War Protest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190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n 1970 Nixon announced that he had ordered troops into Cambod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tiwar protests intensified—especially on college campu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tiwar protests erupted into viol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ixon believed that antiwar protesters represented only a minority of America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adical antiwar groups turned to violent measures to oppose the w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ore and more Americans began to oppose the war when they learned about the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y Lai massacre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and the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Pentagon Papers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380880" y="1143000"/>
            <a:ext cx="2508480" cy="48006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Campus Vio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Kent State University in Oh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18288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4 students were killed and 9 inj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Jackson State College in Mississi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18288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2 students were killed and 9 wou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2971800" y="1143000"/>
            <a:ext cx="2819520" cy="480060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Antiwar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Polls showed that fifty percent of Americans opposed the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oalition of clergy, trade unionists, and veterans established a nationwide day of protest called Moratorium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250,000 protesters made up the largest antiwar demonstration in U.S. hi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creasing Protest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8534520" y="33526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8534520" y="28954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8"/>
          <p:cNvSpPr/>
          <p:nvPr/>
        </p:nvSpPr>
        <p:spPr>
          <a:xfrm>
            <a:off x="5943600" y="1143000"/>
            <a:ext cx="2514600" cy="48006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Radical Protests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ome antiwar groups turned to violent meas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Weathermen set off more than 5,000 bombs and carried out the Days of R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ost antiwar protesters did not support extremist groups or terrorist meas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creasing Protest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03884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y Lai Massac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roops under Lieutenant William Calley killed at least 450 men, women, and children in the village of My Lai while on a search-and-destroy miss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o Vietcong were found in the villa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My Lai massacre was kept quiet at first, but former soldiers began talking about i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is atrocity intensified the divisions between war supporters and oppon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alley was convicted of murder and sentenced to life in prison; he was paroled in 197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95320" y="838080"/>
            <a:ext cx="403884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Pentagon Pap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 collection of secret government documents that traced the history of U.S. military involvement in Vietnam since the Truman ye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Revealed that government officials had been misleading the American people about the war for ye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aniel Ellsberg leaked the papers to the pr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Ellsberg originally supported the war, but then concluded that few South Vietnamese civilians supported the U.S.-backed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8610480" y="32004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"/>
          <p:cNvPicPr/>
          <p:nvPr/>
        </p:nvPicPr>
        <p:blipFill>
          <a:blip r:embed="rId2"/>
          <a:stretch/>
        </p:blipFill>
        <p:spPr>
          <a:xfrm>
            <a:off x="8610480" y="3809880"/>
            <a:ext cx="16056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U.S. Involvement in Vietnam End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1905120" y="2743200"/>
            <a:ext cx="640080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Lowered the voting age from 21 to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cGovern hoped the ratification of this amendment would boost his election ch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439200" y="175248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Geor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McGov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1905120" y="1523880"/>
            <a:ext cx="6400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enator from South Dakota who criticized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Insisted that the Vietnam War be brought to an immediat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297000" y="312408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26</a:t>
            </a:r>
            <a:r>
              <a:rPr b="1" lang="en-US" sz="1800" spc="-1" strike="noStrike" baseline="30000">
                <a:solidFill>
                  <a:srgbClr val="ff9900"/>
                </a:solidFill>
                <a:latin typeface="Verdana"/>
              </a:rPr>
              <a:t>th</a:t>
            </a: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Amend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1"/>
          <a:stretch/>
        </p:blipFill>
        <p:spPr>
          <a:xfrm>
            <a:off x="8458200" y="19810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2"/>
          <a:stretch/>
        </p:blipFill>
        <p:spPr>
          <a:xfrm>
            <a:off x="8458200" y="3276720"/>
            <a:ext cx="160200" cy="1602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9"/>
          <p:cNvSpPr/>
          <p:nvPr/>
        </p:nvSpPr>
        <p:spPr>
          <a:xfrm>
            <a:off x="1905120" y="3962520"/>
            <a:ext cx="640080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Nixon stressed law and order at home and told voters he would end the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Kissinger announced a breakthrough in the peace talks just weeks before the e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announcement helped Nixon win by a land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0" descr=""/>
          <p:cNvPicPr/>
          <p:nvPr/>
        </p:nvPicPr>
        <p:blipFill>
          <a:blip r:embed="rId3"/>
          <a:stretch/>
        </p:blipFill>
        <p:spPr>
          <a:xfrm>
            <a:off x="8458200" y="4876920"/>
            <a:ext cx="171360" cy="1713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6"/>
          <p:cNvSpPr/>
          <p:nvPr/>
        </p:nvSpPr>
        <p:spPr>
          <a:xfrm>
            <a:off x="514440" y="45720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19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A Peace Agreement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533520" y="1371600"/>
            <a:ext cx="761976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ixon tried to force North Vietnam to make peace concessions by ordering the so-called Christmas bombing.  It failed to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533520" y="2590920"/>
            <a:ext cx="761976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fficials from North Vietnam, South Vietnam, and the United States finally reached an agreement in January 197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533520" y="3809880"/>
            <a:ext cx="761976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United States agreed to withdraw all of its troops and help rebuild Vietnam.  Both sides agreed to release all prisoners of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agreement did not settle the political future of South Vietnam—the key issue behind the war from the st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8381880" y="20574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8381880" y="304812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3"/>
          <a:stretch/>
        </p:blipFill>
        <p:spPr>
          <a:xfrm>
            <a:off x="8381880" y="4419720"/>
            <a:ext cx="16056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Vietnam War’s Legacy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267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wo years after U.S. troops were withdrawn, North Vietnamese troops invaded South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fter a short amount of fighting, South Vietnam surrende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U.S. military rushed to evacuate Americans still working in Saig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ome 130,000 South Vietnamese were also evacuated and flown to the United Sta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fter two decades of “temporary” division, Vietnam was reunited under a Communist gover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n 1975, Communist forces called the Khmer Rouge gained control of Cambod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Vietnam forces invaded Cambodia in 1979, overthrew the Khmer Rouge, and occupied the country till 1989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380880" y="1066680"/>
            <a:ext cx="2584440" cy="48769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Southeast Asia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635,000 South Vietnamese died; Vietcong and NVA war dead equaled 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evere environmental damage from bombs and defol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ore than 1.5 million South Vietnamese fled the country after the fall of Saig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3048120" y="1066680"/>
            <a:ext cx="2590560" cy="487692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Vete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58,000 Americans were killed; 600 were held as POWs; 2,500 soldiers reported MIA; 300,000 wou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Experienced a negative reception upon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rouble readjusting to civilian life (post-traumatic stress dis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Legacy of the War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8610480" y="33526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8610480" y="28954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3"/>
          <a:stretch/>
        </p:blipFill>
        <p:spPr>
          <a:xfrm>
            <a:off x="8610480" y="3809880"/>
            <a:ext cx="160560" cy="1605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8"/>
          <p:cNvSpPr/>
          <p:nvPr/>
        </p:nvSpPr>
        <p:spPr>
          <a:xfrm>
            <a:off x="5715000" y="1066680"/>
            <a:ext cx="2743200" cy="48769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Political Impact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United States failed to prevent Communists from taking over South Vietn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pent more than $150 billion on the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hanged how many Americans viewed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ongress passed the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War Powers Act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in 197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19-628-image"/>
          <p:cNvPicPr/>
          <p:nvPr/>
        </p:nvPicPr>
        <p:blipFill>
          <a:blip r:embed="rId1"/>
          <a:stretch/>
        </p:blipFill>
        <p:spPr>
          <a:xfrm>
            <a:off x="1004760" y="1905120"/>
            <a:ext cx="7132680" cy="2582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3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19-629-image"/>
          <p:cNvPicPr/>
          <p:nvPr/>
        </p:nvPicPr>
        <p:blipFill>
          <a:blip r:embed="rId1"/>
          <a:stretch/>
        </p:blipFill>
        <p:spPr>
          <a:xfrm>
            <a:off x="2743200" y="384120"/>
            <a:ext cx="4067280" cy="5483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9-630-vs"/>
          <p:cNvPicPr/>
          <p:nvPr/>
        </p:nvPicPr>
        <p:blipFill>
          <a:blip r:embed="rId1"/>
          <a:stretch/>
        </p:blipFill>
        <p:spPr>
          <a:xfrm>
            <a:off x="414360" y="555480"/>
            <a:ext cx="8305920" cy="52009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lonial Vietnam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388620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Ho Chi Min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Real name is Nguyen That Thanh; 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Ho Chi Minh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means “He Who Enlightens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articipated in tax revolts against the French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Joined the French Communist Par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elieved that a Communist revolution was a way Vietnam could be free of foreign rul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0" y="1218960"/>
            <a:ext cx="4038480" cy="4647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World War 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Japan occupied French Indoch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Ho Chi Minh organized the 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Vietminh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to fight the Japane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Japan surrendered to the Allies in 1945, and the Vietminh declared Vietnam to be independ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Ho Chi Minh hoped for U.S. support of their independ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French reclaimed Vietnam after World War I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8610480" y="34290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8610480" y="3809880"/>
            <a:ext cx="16056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What policies did Presidents Truman and Eisenhower pursue in Vietnam after WW II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?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905120" y="3048120"/>
            <a:ext cx="640080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Communists seized China in 19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Communist North Korea invaded South Korea in 19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Communist-led revolts in Indonesia, Malaya, and the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27680" y="19810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Tr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905120" y="1600200"/>
            <a:ext cx="640080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aw Vietnam in terms of the Cold War struggle against 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upported France; unwilling to back the Vietminh because many were Commun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10480" y="36576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8458200" y="23623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8458200" y="40384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"/>
          <p:cNvSpPr/>
          <p:nvPr/>
        </p:nvSpPr>
        <p:spPr>
          <a:xfrm>
            <a:off x="1905120" y="4876920"/>
            <a:ext cx="64008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elieved in the </a:t>
            </a: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domino theory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ent arms, ammunition, supplies, and money to the French forces in Vietn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15000" y="510552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Eisenh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3"/>
          <a:stretch/>
        </p:blipFill>
        <p:spPr>
          <a:xfrm>
            <a:off x="8458200" y="5181480"/>
            <a:ext cx="171360" cy="171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Vietnam after World War II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8620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he Domino The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Domino theory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—the belief that communism would spread to neighboring countries if Vietnam fell to communis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o avoid this, the United States supported the French during the Vietnam W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y 1954 the United States was paying more than 75 percent of the cost of the w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French continued to lose battle after batt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Vietminh used guerrilla tactics effective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1640" y="990720"/>
            <a:ext cx="3887640" cy="4876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France Defe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French soldiers made a last stand at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Dien Bien Ph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French forces hoped for a U.S. rescue, but Eisenhower did not want to send U.S. soldiers to Asia so soon after Kore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French surrendered on May 7, 195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fter eight years of fighting, the two sides had lost nearly 300,000 soldi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Vietminh had learned how to fight a guerilla war against an enemy with superior weapons and technolog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8534520" y="3429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Geneva Conferenc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33520" y="1143000"/>
            <a:ext cx="761976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goal of the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Geneva Conference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was to work out a peace agreement and arrange for Indochina’s fu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33520" y="2057400"/>
            <a:ext cx="7619760" cy="161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ccording to the Geneva Accords, Vietnam was temporarily divided at the 17</a:t>
            </a:r>
            <a:r>
              <a:rPr b="0" lang="en-US" sz="2000" spc="-1" strike="noStrike" baseline="30000">
                <a:solidFill>
                  <a:srgbClr val="0033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parall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Vietminh forces controlled the North and the French would withdraw from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33520" y="3962520"/>
            <a:ext cx="761976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General elections were to be held in July 1956 and would reunify the country under one gover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United States never fully supported the peace agreements fearing that Ho Chi Minh and the Communists would win the nationwide el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8381880" y="144792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8381880" y="281952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8381880" y="5105520"/>
            <a:ext cx="16056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nflict between North Vietnam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and South Vietnam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77320" cy="3581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esident Eisenhower hoped to prevent communism from spreading to South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outh Vietnam’s leader was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Ngo Dinh Diem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orth Vietnam’s leader was Ho Chi Mihn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While Ho Chi Minh became more and more popular in North Vietnam, Ngo Dinh Diem’s corrupt and brutal leadership began to anger many South Vietname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By the late 1950s a civil war broke out in South Vietn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by 1960, Ho Chi Minh expanded the effort to unify North and South Vietnam under a Communist gover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Sacerdote, Kevin R.</cp:lastModifiedBy>
  <cp:lastPrinted>2005-02-01T16:21:45Z</cp:lastPrinted>
  <dcterms:modified xsi:type="dcterms:W3CDTF">2013-11-08T13:51:57Z</dcterms:modified>
  <cp:revision>96</cp:revision>
  <dc:subject/>
  <dc:title>PowerPoint Presentation</dc:title>
</cp:coreProperties>
</file>