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C65-7592-440E-9E92-63D372BA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DAB-7B36-44B8-92C8-60E6C5C8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F72FC-B56F-4126-BA62-F3DB6CA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98605-F3A2-4A21-BE53-3924E82A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AEEE-C2B5-445B-9A9B-C64DB2D1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4F3E7-FD18-43D5-9389-51239E2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AA6F7-1F65-4F62-ABEA-32E5FE2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310DD-C66D-4492-B7C4-8793E40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A0BDB-6EF3-43D1-94DD-9E5F8D0B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795FD-D480-44B9-B324-CF15CD90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4807F-2CE4-4C82-AB71-FF1A87E2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BE23C-BD9D-43DA-A9E6-754F3C1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0DC-9E9D-44EC-99B0-F35DCA3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44799-3FA6-4A62-B26E-AFA11CA3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1F70-E3DE-4A62-976E-9AB227C7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46519-6F0F-4ED6-843E-1F13343C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7AD25-029D-42DD-B898-06A6250D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639F9-49FA-42A3-AF10-90066246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14754-4D56-49B1-ABE3-05580AD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DF2E-0A2C-4168-9FFA-4E73620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F4D46-EA26-4764-8B1E-02DD5A3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1CDAC-BC77-48D6-A13D-838BFA71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F5FA2-D7CA-4D24-905D-D267A2A7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87F-5C3F-44CD-B0AF-A91B9BF4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B0C34-6D26-482D-862E-B1DC4FC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5A6-B246-4AEB-87D3-322CCAC6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F80A-2912-4EEB-BDBC-897B9973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A4E3-21DA-49EA-897D-7A8C059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DB15-4DFA-454F-B3C1-CB836E0D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EA83-073F-49BC-974A-74424D9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A1EF-DFC5-4DB4-9D97-97F0CA9E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9286-9C96-4562-A4E8-3430E47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ED2-4D76-49F2-9EE8-BCD4602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B1BC-9E02-4BDE-BD9E-D1B4D3C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FFF-B6BF-450C-B7CB-D5D3899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36C-FA21-4D8C-958B-822856C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C979-1A85-41C1-AE08-9C07C1A4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245D-8D22-4A3A-B1FE-4D7EAC8F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309F-467B-4940-A08E-89745FB8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9F30-C9C5-4A3A-8858-C1130BE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2244-E436-4E7D-BDD5-91FCB93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3170-2C67-463A-A31B-A00B95C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1B73-0894-4AF2-AAB1-93C5B0F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C41-41C0-42D5-983F-21E8993C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702C-C932-4817-A709-1226DE02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CAFF-329F-42FD-9625-2B560B3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C78C-690D-4E89-B2B9-85297B6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42DF-9CBF-44A9-9F69-49065F5A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2898-4EAE-4DE1-8859-ECD1463E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A857-060F-40C8-AB0E-7404AFF6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8F1C-1B55-4523-9872-BA91B28D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F7DD-C653-4DA9-9713-A5ABE9A1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CFD7-FF07-47B8-BFD1-D99A5A25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2754-A926-44F4-AECB-91139D38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6C6-4968-42BF-A92A-2BBD7565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FE99-2B28-46FE-88D7-CE0BFF8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6C9DB-7309-4656-9C3F-E403182B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94DF-7DFF-45CB-A063-3BE45F8C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2210-49A9-4665-B328-69C25E4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2388-BDC0-4E6B-A8C1-9886AA2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795B-0485-4EAD-960E-37344B4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04E1-33CA-4D00-A62A-1ECCE040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7DF6-ED10-49C2-A5BC-E124E71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5011-4A3E-41D9-9FE2-FBDF608F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FB318-23C0-4836-8C77-154046CB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EF8-20C9-404B-B5B2-899532F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112CD-63D3-43EC-B218-37F19DE0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4EA3B-B0A4-4DA8-B110-BCC6ED8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A417F-7458-49B2-8AE3-0F614712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329D2-94A0-4547-9292-261A810B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8FE24-ED91-4B78-B39D-B003B17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C88AB-CBC7-42D0-B663-076C727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609FF-CEF5-47C4-9D5D-9193A8E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5300B-AC33-49FE-B9BA-930C68E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D80B0-D4DD-4ED6-913F-46C60AA3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D4209-E9EE-4EFD-BC40-7EAC1113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260-73DA-4C1C-A4AC-9861638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561A5-D9D2-4FFB-ACA3-A74BD4CF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AFD3-B27D-43D7-9464-60D9EA09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11D5-C5FB-46AD-8EE9-255962BD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E2A72-8CBB-4545-A3B3-351752BA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BA4DD-2153-4F3C-A056-65987A68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90328-9A18-4207-97DE-CAD29D9D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C8B4C-B5B1-4A63-A137-2B3BAB2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6F9B-FFBE-4A96-8F35-97C1799A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3FB6-6CD4-4ED6-ADAB-4ACAA79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EF03-75BD-4FD4-BE75-7448FB2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202-0EB2-4090-BAE5-128E2FA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993D-9682-4ACB-8019-4500F61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8127-4761-4CDC-9A78-D81CEE9E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3A7C-09F1-429F-B7B3-A7E1C320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3817-1CE7-46EF-A420-81820E98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7AF4-F144-424E-806E-D2042EAA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7CEB3-60CE-41DA-9425-AC00901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36BE-3A9E-4E6F-8596-436FBA61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B54C-2A75-4FE0-8F3C-9900C2D4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CD8F0-ABA4-4EFE-A752-C779C0C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E6ED-847A-483E-88C2-9B8CD8A0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DD2-590E-49AC-BAB2-44BD44F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356D-2D45-45DE-9640-AFECA7F7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D74C-C2CE-43CB-B51A-3F775E3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7DC8-9B66-4DC5-B4EB-987EE13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87FA-794B-41F5-A95B-3454CD77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0084-BA3C-435F-98C1-B0C55EDB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A9170-29E6-4BE2-B5D3-A8FFA241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24D39-6E32-47A7-BD48-A640831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2F8CC-376E-447B-9BEF-D83E8E7D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86C3A-9C2F-4187-A39F-A19A5E7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2B4B-B08A-4CF3-81F5-4E4DB2F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450-2E8C-48C2-B671-6797C1E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E20D-E06B-4A2B-B69A-3071C8B4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F475-5BDB-4DD3-ABD7-8A29043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A2FA-3EF6-4517-8CE7-82185EA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1E79-F350-4B22-9DFB-9887316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0F1ED-1383-4065-BE6E-9F4706D6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D0907-9CE7-4375-80DC-908CE5D7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348E-AFFC-49A4-9C60-9FFBD34A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8FFB4-91A8-42E0-9C71-A6021A16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FF679-28D9-445C-A483-A571BB7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E4E5C-BECD-4783-8DEF-59A792F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08D-83F0-4EDE-97EA-860808E6A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31C3-E0F5-4F3D-9E1C-B42C8282C7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B879-377B-47B5-A1D5-2F9DE4A8E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FD3-EC79-4960-810B-A716A6484F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9C1F-DB71-427F-86F7-3D55EC51A6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4D6-C4D5-4055-A764-1096D33E45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A66A-DAEA-4AB8-82E7-32B31A25D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113-8478-4F4F-BDDB-C5F8D54296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B5D-10C0-4F14-B30E-F95D636419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A8A9-29DB-4BAC-96AB-B9AD688BF3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he Tet Offensive, 196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etnam War’s Turning Poi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mpact of Te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Military Request for 206,000 more men – half to Vietnam, half to reserve – effort to persuade the president but was more pessimistic in order 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) Defense Secretary Clark Clifford – ordered a full scale review – influenced by civilian strategists in the Pentagon – pushed for a change in strategy, de-escalation, getting Saigon to do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ideration of a bombing ha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ecretary of State Dean Rusk – now pushed for a bombing halt – thought Hanoi damaged by Tet – chance for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Johnson – thought US might now be able to act from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Uncertainty at the White House reflected in the public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 of Gloom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obert Kennedy’s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edia reporting on the war – image of chaos and def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alter Cronkite -YouTube - Walter Cronkite Remembers His Tet Offensive Ed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NYTimes story – March 10, 1968 – Westmoreland’s request for 206,000 – produced an upro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war moment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Congress – 139 House members call for a review of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arch 12, 1968 - New Hampshire primary – McCarthy almost upsets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March 16, 1968 – Robert Kennedy enters the race YouTube - Robert Kennedy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“Gold Crisis” intensifies fears of 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at the time – March 16, 1968, the My Lai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Johnson meets with the Wise Men – they urge de-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ohnson’s withdraw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proposes a bombing halt north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Johnson - Remarks on Decision to not seek Re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B. Johnson I Will Not Run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Vietnam agrees to Peace talks in Paris – immediate problem, Saigon and the N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after Tet in 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Military action in Vietnam remains stepped up – offensives in May and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US accelerates Pacification Program and Chieu Hoi program – amnesty to Viet C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Phoenix Program developed by 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Expansion in size of South Vietnamese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Violence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Assassination of Martin Luther King in Memphis, April 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Assassination of Robert Kennedy in June YouTube - Robert Kennedy's assas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Chicago Democratic convention – riots and protests YouTube - 1968 DNC: Democratic nightmare in 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umphrey vs. Nixon vs. Wall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ingroomcandidate.org/commercials/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4" descr="HubertHumphrey"/>
          <p:cNvPicPr/>
          <p:nvPr/>
        </p:nvPicPr>
        <p:blipFill>
          <a:blip r:embed="rId1"/>
          <a:stretch/>
        </p:blipFill>
        <p:spPr>
          <a:xfrm>
            <a:off x="671400" y="2743200"/>
            <a:ext cx="29577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ixonblack&amp;white"/>
          <p:cNvPicPr/>
          <p:nvPr/>
        </p:nvPicPr>
        <p:blipFill>
          <a:blip r:embed="rId2"/>
          <a:stretch/>
        </p:blipFill>
        <p:spPr>
          <a:xfrm>
            <a:off x="3629160" y="2743200"/>
            <a:ext cx="2390760" cy="30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georgewallace"/>
          <p:cNvPicPr/>
          <p:nvPr/>
        </p:nvPicPr>
        <p:blipFill>
          <a:blip r:embed="rId3"/>
          <a:stretch/>
        </p:blipFill>
        <p:spPr>
          <a:xfrm>
            <a:off x="6095880" y="2973240"/>
            <a:ext cx="21337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mbing Hal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rague Spring – Soviets Invade Czechoslovakia – Cancellation of Summit – the Cold War is still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ohnson Halts the Bombing of North Vietnam before the ele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Nixon – secret contacts with Thieu – warns him about the negot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Saigon won’t negotiate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Nixon w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) Stalemated War, Stalemated Peace Tal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ectoral Map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lection1968"/>
          <p:cNvPicPr/>
          <p:nvPr/>
        </p:nvPicPr>
        <p:blipFill>
          <a:blip r:embed="rId1"/>
          <a:stretch/>
        </p:blipFill>
        <p:spPr>
          <a:xfrm>
            <a:off x="685800" y="1600200"/>
            <a:ext cx="7770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Tet Offensive: The Eddie Adams Pic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68" name="Picture 3" descr="Vietnampictures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ixon “Bring us together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nixonwins1968_nyu_2050081722-20216"/>
          <p:cNvPicPr/>
          <p:nvPr/>
        </p:nvPicPr>
        <p:blipFill>
          <a:blip r:embed="rId1"/>
          <a:stretch/>
        </p:blipFill>
        <p:spPr>
          <a:xfrm>
            <a:off x="2133720" y="1143000"/>
            <a:ext cx="507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ckground to Tet – January 196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rth Korean seizure of the USS Pueblo – concern about another front in Asia – (North Koreans had attempted assassination of South Korean leader the previous day) – crew released in December, only Navy ship still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Siege at Khe Sanh – begins January 21 (will last until April 8) – fears of another Dien Binh P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the Offen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) Struck 36 of 44 provincial capitals, five of six major cities, 64 district capitals, and 50 ham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) Raid on the US Embassy – got into the compound – lasted about six hours - all 19 killed or severely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.) Also hit Saigon’s airport, presidential palace, and military headquar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.) Most successful attack in Hue – held the city for a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tage from Tet Offensive – CBS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tm3WimttZjc&amp;feature=rel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litary Assessment of Tet – a defeat for the Commun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 collapse of Saigon – South Vietnamese did not welcome them as lib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Losses – may have been as high as 40,000 – the Viet Cong took the brunt of the losses – Hanoi expected to do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 the U.S. – A “Costly Victory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US losses more than 1100, ARVN 2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ore than 12, 500 civilians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evastating Effect on American public opinion – 78 percent of Americans said no progress was being made; 26 percent approved Johnson’s handling of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Increase in the credibility gap – Tet seemed to show LBJ’s progress offensive was an exaggeration, to some a lie – Kennedy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t’s Impact on Washing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hock at the White House – divided the staff, Rostow still hawkish, McPherson and others more do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ilitary – wanted Johnson to take important decisions – perception of being stretched thin – wanted a reserve ca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estmoreland – wanted to expand the war into Laos and Cambodia, southern North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5" descr="Vietnam"/>
          <p:cNvPicPr/>
          <p:nvPr/>
        </p:nvPicPr>
        <p:blipFill>
          <a:blip r:embed="rId1"/>
          <a:stretch/>
        </p:blipFill>
        <p:spPr>
          <a:xfrm>
            <a:off x="2590920" y="1447920"/>
            <a:ext cx="318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9:33:20Z</dcterms:created>
  <dc:creator>Tom Schwartz</dc:creator>
  <dc:description/>
  <dc:language>en-US</dc:language>
  <cp:lastModifiedBy>mackeyca</cp:lastModifiedBy>
  <dcterms:modified xsi:type="dcterms:W3CDTF">2013-02-19T14:24:02Z</dcterms:modified>
  <cp:revision>10</cp:revision>
  <dc:subject/>
  <dc:title>The Tet Offensive, 1968</dc:title>
</cp:coreProperties>
</file>