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2196-878C-4EB3-8A46-68C2959C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B14D-9436-435E-B48C-1EE83351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B6DA9-B86B-481F-AEA6-EE05B5FA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7E422-C59A-4722-BE3B-6D6741E3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A1255-7552-4DCD-B2E4-91F766EC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F8FB6-B2E8-470A-BF59-C53C35E1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DCA10-1109-4FA2-994A-31334116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65A6D-7EB9-4542-A6A5-FAE21A56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23B20-FE55-4A18-88E8-F816B050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24A0D-524F-412C-9EB9-CB2F68FB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61D43-B368-40FE-AB5A-F40382D2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077DB-451C-42E6-9989-F883524E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D6F7-4BAD-49C5-84FE-14888530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68072-C2B0-47D2-A610-53179A47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53C39-5EC0-48D9-8D53-59145A18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840C9-0035-4A55-8CB7-9AC674E3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F44BC-B27B-497A-A76B-01736965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17E9E-576E-48A4-8385-F05FC689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C8BB1-9ACC-445B-BA56-DE6CAA2E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DC228-0D92-43EE-B94C-275613C2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6A96B-DC38-484B-8E80-D6545FD6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CE016-96F2-4347-A43A-FAFA0619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8F08C-723B-4DE1-BAD1-A84BAD6F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0D9-DC5E-497E-AC24-682C44F4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4DA4D-F71C-4456-9BCA-091AA88C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3C25-E24E-47FC-8DCC-3E0B8439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54D5-C072-4E78-8B1B-1DCB17A3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4A05-3A72-425E-96A3-7D8242C2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7DE8-A56C-4FC0-9514-19E008C6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0FEE-7FCC-4AE3-8BD0-1E6A26F2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C073-CD53-4983-9C78-5ACDABB3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D6BB-C1FE-4E68-8A36-1C5C5737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8530-EAE5-4F7A-B68B-976F8F4B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64C2-DB74-429D-9474-A19B49D4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C240-8E54-484E-A5BB-F72A48C7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1444-3E6B-4E86-8F34-5C7FC121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2B4D-85DB-4A03-970E-2669CE7D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8496-8B1B-412A-A9F5-3D8B660B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A8E5D-2ADE-4542-BEC9-3C52C4A6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1F1C7-CD5E-4A87-86F4-16EA2A91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AB99F-7CFC-4778-9632-EE7CDDBD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8700B-A39B-4229-A165-4F649598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FFC55-6883-4DD0-99B2-B76421E9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3055-82B6-451D-9F68-5BD8D7B5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17658-50B9-4124-9ABD-80E9EB00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E422F-4A81-474F-BA66-A91378C0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C0355-5AC2-45BB-BA99-55DC92D5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6EA10-CF1C-4E18-900C-EA6272CE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F229B-FDE9-4592-8F3E-BB67D885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EBCC7-CF84-425C-9346-C90445F1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E5B09-17CF-4169-BDEB-F3ED3F83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40C97-6951-4C10-829C-903B2667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7DEE9-BB0C-4621-BD75-9001F3E1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E4C37-2108-4E3E-89DA-A9F27E9A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F3F2-53E6-4F39-B8C3-BABD7720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45DF6-C808-48AD-A977-37CEB415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E1F05-7561-46AD-83D4-1CF540FF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46B19-FF4C-4A1C-8D7D-E5DF6FAE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BA3DC-732A-46DE-88A8-6E26B051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FBE2E-574F-4884-BDB9-44DFB1F8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B1A04-210E-4F4C-B9DF-81B73D87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3103D-69D6-4835-B501-3EAB7D14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3CBB4-D7E8-4A7D-A23F-6B562D4C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D8421-D041-4F2A-A3FE-70AD2E00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9CA58F-D720-4219-ADDE-C638062D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B10-CB70-4406-9F8A-C8FEE84E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5BAB9B-AF0D-4BBA-ADF6-D2421079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26DA45-CED1-4BD7-B64F-6AE05434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414BA2-263F-4025-93C0-A3032373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5B3C48-8DB6-4B5C-855E-5FBC5111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4D3A9B-3001-4C2A-AB9B-4AA0410D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99F59D-22AA-47A4-8FE1-FD508616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83E5A4-381C-4671-B3D3-3E81B1E7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A56F41-5AEA-4DEA-8F2A-E62FF6CC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9DE76F-668B-4423-BAF1-C338F91C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B1D22F-D0FA-4FEF-A8AB-B02A8B03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96C-2BFE-4EAA-BDE3-81FC3522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6D3541-367F-41DC-9E04-7CB6E25B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99049-C121-4612-B5F8-A8697260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0AACD-DF18-4E33-B51B-1FBBDA86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6BE21-184B-409E-B0C2-DBB12CBC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688D2-27AE-42CF-9D21-DE17CE15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9CE78-2EF8-4D34-BAF9-A5EA6B2D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9645E-CED0-4BAF-8F58-4E76ED38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6D801-35E6-4909-9B37-B02964AF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4F37E-2FC7-4CE5-80BF-42448526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B9995-E91D-488E-8E39-C11BFE6A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0AC6-37D0-444B-AC4E-0DD74400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F30C1-6D93-4EC4-A24F-7ED075C9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0EF54-6A98-439B-8E97-8AD160CA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688F8-4C69-40C7-9A7D-7AE4DE5B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56970-5664-489E-BDD2-729DF3DB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B3912-E9E1-4004-813F-A27A9E51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C92CC-829E-4202-A145-49F50941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E0BAA-31DA-470D-BED6-39D3C613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CF695-0427-45AD-B59A-BF81A3B8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A6D1F-64FC-40EA-BBBB-06C3CA03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D6198-7F3C-40DD-B38C-192A6B71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65F6-DEC1-46AF-8EE3-2E12DDB5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A54ED-560F-4312-85B4-548FA9DD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A52D3-5C6B-4559-A0C3-8B2B5957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1D737-F312-44C7-8E76-A7076A7F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4415C-9E9C-4997-ADDA-2ABEE327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6E108-24A6-4761-9EDE-F60B8C8D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C36FF-52C2-4A67-A854-1C1E5CBB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6B461-BE0B-47E1-ACF2-30B24113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05A42-826E-4802-8AEA-953604C2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7B510-848E-44A8-B1E5-EA81C950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43D66-BA39-4462-ADA0-BDDFB9E1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B65-84C0-42E6-ABDD-106027FE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BCA73-6327-466F-8BA3-543B3892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9EC1E-7BC0-443E-A384-7B54DD9F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8B04F-B47B-4214-BA56-58CBD8CC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558DD-2294-48C9-87D7-3D4875FB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45741-A8EA-4454-B38B-485CF542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1A902-B0E5-4CC7-8D76-6A5191C5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9286E-FB13-4565-9911-D488CB15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66651-FD2A-4222-9C84-DDCA8963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0D51B-0BF4-4B9B-AC64-1AB081F7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1734E-E0E7-4F89-95A8-7C7F7694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07AE-FF33-48DB-BB6F-F54C04470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0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F6A2-BAC9-4C65-98EA-8EB9AA9C1F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1E5A-082D-4C04-ADB9-7633C7F228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2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64B7-411F-4A32-9AAD-416683C8876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66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68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69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5F4E-C9CC-49DF-81AC-BD4EEA3C49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2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6F7D-80B9-481F-924E-0B1F94C212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8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EB3C-D036-4C33-A7B9-64A8AF5C1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5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519A-13A1-4A17-B349-F45DF4D2BB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03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2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3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4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72CD-0312-474F-8676-F1F659D0F36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48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49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51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4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55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6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9C6E-E4E5-408A-9200-C5ECF44009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The Tet Offensive, 1968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Vietnam War’s Turning Poi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mpact of Te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Military Request for 206,000 more men – half to Vietnam, half to reserve – effort to persuade the president but was more pessimistic in order to persu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) Defense Secretary Clark Clifford – ordered a full scale review – influenced by civilian strategists in the Pentagon – pushed for a change in strategy, de-escalation, getting Saigon to do m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sideration of a bombing hal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Secretary of State Dean Rusk – now pushed for a bombing halt – thought Hanoi damaged by Tet – chance for peace tal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Johnson – thought US might now be able to act from streng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Uncertainty at the White House reflected in the public m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tmosphere of Gloom”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Robert Kennedy’s spee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Media reporting on the war – image of chaos and def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Walter Cronkite -YouTube - Walter Cronkite Remembers His Tet Offensive Editor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NYTimes story – March 10, 1968 – Westmoreland’s request for 206,000 – produced an upro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ntiwar momentu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Congress – 139 House members call for a review of poli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March 12, 1968 - New Hampshire primary – McCarthy almost upsets John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March 16, 1968 – Robert Kennedy enters the race YouTube - Robert Kennedy for P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) “Gold Crisis” intensifies fears of esca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known at the time – March 16, 1968, the My Lai massac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) Johnson meets with the Wise Men – they urge de-esca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Johnson’s withdrawa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hnson proposes a bombing halt north of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rall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Tube - Lyndon Johnson - Remarks on Decision to not seek Ree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Tube - Lyndon B. Johnson I Will Not Run Add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 Vietnam agrees to Peace talks in Paris – immediate problem, Saigon and the N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1968 – after Tet in Vietna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Military action in Vietnam remains stepped up – offensives in May and Augu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US accelerates Pacification Program and Chieu Hoi program – amnesty to Viet Co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Phoenix Program developed by 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Expansion in size of South Vietnamese A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1968 – Violence in Americ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Assassination of Martin Luther King in Memphis, April 196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Assassination of Robert Kennedy in June YouTube - Robert Kennedy's assas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Chicago Democratic convention – riots and protests YouTube - 1968 DNC: Democratic nightmare in Chic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umphrey vs. Nixon vs. Walla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livingroomcandidate.org/commercials/196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0" name="Picture 4" descr="HubertHumphrey"/>
          <p:cNvPicPr/>
          <p:nvPr/>
        </p:nvPicPr>
        <p:blipFill>
          <a:blip r:embed="rId1"/>
          <a:stretch/>
        </p:blipFill>
        <p:spPr>
          <a:xfrm>
            <a:off x="671400" y="2743200"/>
            <a:ext cx="2957760" cy="31240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6" descr="Nixonblack&amp;white"/>
          <p:cNvPicPr/>
          <p:nvPr/>
        </p:nvPicPr>
        <p:blipFill>
          <a:blip r:embed="rId2"/>
          <a:stretch/>
        </p:blipFill>
        <p:spPr>
          <a:xfrm>
            <a:off x="3629160" y="2743200"/>
            <a:ext cx="2390760" cy="30621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georgewallace"/>
          <p:cNvPicPr/>
          <p:nvPr/>
        </p:nvPicPr>
        <p:blipFill>
          <a:blip r:embed="rId3"/>
          <a:stretch/>
        </p:blipFill>
        <p:spPr>
          <a:xfrm>
            <a:off x="6095880" y="2973240"/>
            <a:ext cx="213372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Bombing Hal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Prague Spring – Soviets Invade Czechoslovakia – Cancellation of Summit – the Cold War is still t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Johnson Halts the Bombing of North Vietnam before the electio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Nixon – secret contacts with Thieu – warns him about the negoti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) Saigon won’t negotiate y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) Nixon w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) Stalemated War, Stalemated Peace Tal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lectoral Map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7" name="Picture 4" descr="election1968"/>
          <p:cNvPicPr/>
          <p:nvPr/>
        </p:nvPicPr>
        <p:blipFill>
          <a:blip r:embed="rId1"/>
          <a:stretch/>
        </p:blipFill>
        <p:spPr>
          <a:xfrm>
            <a:off x="685800" y="1600200"/>
            <a:ext cx="77709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Tet Offensive: The Eddie Adams Pictur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568" name="Picture 3" descr="Vietnampictures"/>
          <p:cNvPicPr/>
          <p:nvPr/>
        </p:nvPicPr>
        <p:blipFill>
          <a:blip r:embed="rId1"/>
          <a:stretch/>
        </p:blipFill>
        <p:spPr>
          <a:xfrm>
            <a:off x="1222200" y="1600200"/>
            <a:ext cx="6697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ixon “Bring us together”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0" name="Picture 4" descr="nixonwins1968_nyu_2050081722-20216"/>
          <p:cNvPicPr/>
          <p:nvPr/>
        </p:nvPicPr>
        <p:blipFill>
          <a:blip r:embed="rId1"/>
          <a:stretch/>
        </p:blipFill>
        <p:spPr>
          <a:xfrm>
            <a:off x="2133720" y="1143000"/>
            <a:ext cx="5072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ackground to Tet – January 196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North Korean seizure of the USS Pueblo – concern about another front in Asia – (North Koreans had attempted assassination of South Korean leader the previous day) – crew released in December, only Navy ship still h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Siege at Khe Sanh – begins January 21 (will last until April 8) – fears of another Dien Binh P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ginning of the Offens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.) Struck 36 of 44 provincial capitals, five of six major cities, 64 district capitals, and 50 hamle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.) Raid on the US Embassy – got into the compound – lasted about six hours - all 19 killed or severely wound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.) Also hit Saigon’s airport, presidential palace, and military headquart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4.) Most successful attack in Hue – held the city for a mont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otage from Tet Offensive – CBS Ne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http://www.youtube.com/watch?v=tm3WimttZjc&amp;feature=relat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ilitary Assessment of Tet – a defeat for the Communist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No collapse of Saigon – South Vietnamese did not welcome them as libera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Losses – may have been as high as 40,000 – the Viet Cong took the brunt of the losses – Hanoi expected to do be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or the U.S. – A “Costly Victory”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US losses more than 1100, ARVN 23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More than 12, 500 civilians kil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Devastating Effect on American public opinion – 78 percent of Americans said no progress was being made; 26 percent approved Johnson’s handling of the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) Increase in the credibility gap – Tet seemed to show LBJ’s progress offensive was an exaggeration, to some a lie – Kennedy spe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et’s Impact on Washingt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Shock at the White House – divided the staff, Rostow still hawkish, McPherson and others more dov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Military – wanted Johnson to take important decisions – perception of being stretched thin – wanted a reserve call-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Westmoreland – wanted to expand the war into Laos and Cambodia, southern North Vietn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ietna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3" name="Picture 5" descr="Vietnam"/>
          <p:cNvPicPr/>
          <p:nvPr/>
        </p:nvPicPr>
        <p:blipFill>
          <a:blip r:embed="rId1"/>
          <a:stretch/>
        </p:blipFill>
        <p:spPr>
          <a:xfrm>
            <a:off x="2590920" y="1447920"/>
            <a:ext cx="31892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9:33:20Z</dcterms:created>
  <dc:creator>Tom Schwartz</dc:creator>
  <dc:description/>
  <dc:language>en-US</dc:language>
  <cp:lastModifiedBy>mackeyca</cp:lastModifiedBy>
  <dcterms:modified xsi:type="dcterms:W3CDTF">2013-02-19T14:24:02Z</dcterms:modified>
  <cp:revision>10</cp:revision>
  <dc:subject/>
  <dc:title>The Tet Offensive, 1968</dc:title>
</cp:coreProperties>
</file>