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F47-5196-4B9B-A248-B942BCE3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51E-4D50-450B-94EC-C25B5641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20250-F976-4AC1-8976-99A1C7E1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7FC82-FAC1-4A07-8345-5CCF85ED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64AFF-B343-4D41-A0DA-CE70D499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51A79-2B7D-4E22-84D9-79830454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7AC92-2474-45BF-9C4E-8152D754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6A889-D185-4AA0-8B03-E486B098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CE564-63A5-4A25-9DC2-1B917264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3E45A-736D-41D0-A808-A670E9FD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FC09E-5AE3-40A7-BFB9-76FFCFE9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D7828-02F0-4719-90F3-8AC004F6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1BF-1CF2-46F9-8911-AB5245B7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0ECC4-0DFD-4AB3-B99C-5A5E3C8F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DFAED-157F-4FE1-B5DC-D9BA7724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E4DD8-E1BA-4AA1-A04E-AFA85914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9B845-E401-466C-B312-BACDCBC6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5BB8B-521E-4C4B-923B-14899CB0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1AB25-D00E-43BB-9C15-52714664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A2510-A836-4CCB-AFC8-8B0DDEC6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707CB-B47D-4927-9F12-78DC92D0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E89B8-B240-483C-9AAE-103515A1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E7BA8-F183-487A-87EA-ADDFA3FC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9D8-0BB4-444E-A8E0-E0AD2365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374D3-3E9B-4643-94D8-1A8DF7B1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39AD-F403-43D8-9168-6658CF8A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A64F-FE1F-4565-85B7-AE3A6EE1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4E0F-AB0D-4BDC-817A-6DF881A0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ACDF-F901-4FC4-A5BB-2A76A8DF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00D8-9ECF-467A-B8A2-9870E469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C014-A1F9-4DBC-A5B3-1057BA3C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F8A2-B33B-4DB6-9675-4B8FFE22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09E-E2E3-4735-AB7F-324911D8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E08F-A596-43D8-8681-8DBCA079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FC64-78AE-4B77-B370-9D01514F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C0C5-0943-4BAA-93BF-5B8039C0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C58B-B0B1-4886-9773-872A947F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A547-B912-4556-863C-C2932804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C01CE-9A39-4D8B-AB89-5A2EFAFA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E6EF-F2BC-45AC-975F-88245423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8D447-D62F-4829-AFFA-CD67BE6D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C847D-E1A5-4A14-ABC8-78F40B31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C3075-806B-4383-980B-1C58DC11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9C3-48B6-4328-BE67-EEADD141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5E374-C0E1-49AC-8BA3-339F74BE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B7E03-85E4-43E3-9B25-01980D18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180CF-6182-4B56-8A9D-730DD209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071CA-1E1D-4100-A1EB-7CC43F35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BD53B-E4E8-461F-B8E9-BF36E1B2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473D4-ACA9-4FF7-9584-D636C0AF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59013-9C45-406E-A85F-07734BED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7E8DD-F374-4FC8-AF1E-58F8DFAA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FF109-1AA3-49DC-BBD5-537A447D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79980-C561-4415-9E5B-C43AD91A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82B-D7EC-4FCC-BECD-2FB98565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7B673-51D4-4806-B4E9-86A767C3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3F81E-AA4F-4D10-879D-AF5D9CD9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2F6A1-2BB3-43F4-B1FE-C7820922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28440-69C0-41AD-B817-D0DB6FB0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43373-01CA-4613-8563-BD770F47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BC072-C37F-4B8A-96B4-0EEB0A01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46F2-C5DB-4955-A6C7-523DA352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AD7C2-E96C-46AA-890F-7027E470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886A-A5C7-4166-94CC-168BE044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9E725-8967-461D-A4C0-7258F030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23C-E988-4978-B086-E128C8AB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66ACC1-E6CC-4FB4-A15B-B379C2FC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53B060-C8C7-4178-906E-AEA978E3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27A0A-4502-4ECE-A030-5BC917CC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05769-59B5-4002-80AA-9245BBEC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CE6ED2-7291-40C6-8BD2-9BD93151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9E065-FC97-43CA-889E-1B40A7DC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28B12-9047-4ABE-9381-440C3D3D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2EDDD-921E-4F79-BD84-FB8BBE81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98FE4-2F34-4BAB-ADA8-E6740E1E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D5E2E4-49E3-4E5F-8DF1-F610AFC1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D12-FBE2-4210-A647-3F50B689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11A14-B299-4E1A-B728-3581430F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D9A7B-1C78-46D6-90C8-A03EE675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40627-06B3-44BA-979F-8CF88D9B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11E08-735C-42AB-A8E5-AEE74447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C1730-B310-4B83-BA51-6859B2B7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BDE01-6097-4055-9E27-49E44E0E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A9DEC-36EF-4D90-9534-92DF475E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1CF8E-AEFD-46F7-A266-EE0DEC38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D9107-6515-4D15-9192-F4B41F6E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218FE-15E6-466E-9EB8-B03B0872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BCD-54E5-425D-90AF-78A8F688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A0161-8CD4-4E76-853F-13790F41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09E3D-685A-497B-9AD3-57EE9B0D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203E5-B5A3-4F55-9D0D-0F86AF52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4937F-41BF-4860-8DAF-F54F2B7C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722A6-7439-4227-BA48-4411F7F1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9D189-8628-45CE-81C3-74919E94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1151B-6002-40B0-B50E-0E0320E5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3CC80-7F29-457D-AB33-B7B25915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5055D-DDB0-4415-8ECA-6FD1515D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C9C03-DF60-483F-95F8-2E7204D8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E81-3B03-4FE2-A878-4E7A8B59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88A60-B3BE-487C-A302-95D636D9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B2B17-AB38-4E73-8852-42EDFD2A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6FF9A-ECDA-4891-B9D0-8D4A743A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7F4F2-62B5-46B6-AF86-15DF1109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04789-D751-4FF4-B298-D45FD1F2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601F9-800C-4DF5-B036-AA732C98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06D51-18D5-4D55-96B0-09BD7331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ECE22-EA65-42D7-9AB0-37A346B7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7111D-8FEE-41FC-A6D6-29CA4445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57091-72C8-4E51-AFA9-D8125BC8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924-457B-4843-B617-E05A4F83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6550A-5258-4980-AB5C-03372D9D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9EBF1-6E81-4317-9E45-873CCC30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8AB7C-07BE-4CAD-881B-8610DE10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6AFBB-B58F-475E-A2F7-8C91670C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9A891-6A65-42DA-838C-5A8AAB98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4369A-FEDD-435D-8C31-A7319D31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13719-AECD-46B3-BD03-E752E7BA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C6493-201C-42E0-A4C2-02669C7A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AAF43-DA2D-4E23-9658-FCBE1DA9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855B7-920E-4B5D-862A-975785B0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0634-F219-4272-8415-7AD7756B0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A950-82E9-44F0-94E5-E43C6457FF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3CF0-A845-44C1-B227-CE44ABFD89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2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3B4E-2F55-4E3A-BA78-769280A6046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66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8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69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516D-7E17-453F-82BC-98EDA7B6CE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2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ED37-D48F-4B4B-888A-6E57FB3EB4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807F-3CCA-4A40-BE97-C6AB05034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5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8B3D-AFE8-4441-A994-AD5139FB51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0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FCD6-9E12-43B1-9ED6-D5520DB7D8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48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49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1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4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55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6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C6DD-8590-4D5B-BC9F-38CDD4256E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The Tet Offensive, 1968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ietnam War’s Turning Poi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mpact of Te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Military Request for 206,000 more men – half to Vietnam, half to reserve – effort to persuade the president but was more pessimistic in order to persu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) Defense Secretary Clark Clifford – ordered a full scale review – influenced by civilian strategists in the Pentagon – pushed for a change in strategy, de-escalation, getting Saigon to do 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sideration of a bombing hal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ecretary of State Dean Rusk – now pushed for a bombing halt – thought Hanoi damaged by Tet – chance for peace t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Johnson – thought US might now be able to act from str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Uncertainty at the White House reflected in the public m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tmosphere of Gloom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Robert Kennedy’s spe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Media reporting on the war – image of chaos and def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Walter Cronkite -YouTube - Walter Cronkite Remembers His Tet Offensive Edito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NYTimes story – March 10, 1968 – Westmoreland’s request for 206,000 – produced an upro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ntiwar momentu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Congress – 139 House members call for a review of poli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March 12, 1968 - New Hampshire primary – McCarthy almost upsets John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March 16, 1968 – Robert Kennedy enters the race YouTube - Robert Kennedy for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“Gold Crisis” intensifies fears of esca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 at the time – March 16, 1968, the My Lai massac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) Johnson meets with the Wise Men – they urge de-esca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Johnson’s withdrawa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son proposes a bombing halt north of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all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Tube - Lyndon Johnson - Remarks on Decision to not seek Ree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Tube - Lyndon B. Johnson I Will Not Run Add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Vietnam agrees to Peace talks in Paris – immediate problem, Saigon and the N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968 – after Tet in Vietna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Military action in Vietnam remains stepped up – offensives in May and Augu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US accelerates Pacification Program and Chieu Hoi program – amnesty to Viet C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Phoenix Program developed by 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Expansion in size of South Vietnamese A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968 – Violence in Americ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Assassination of Martin Luther King in Memphis, April 19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Assassination of Robert Kennedy in June YouTube - Robert Kennedy's assas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Chicago Democratic convention – riots and protests YouTube - 1968 DNC: Democratic nightmare in Chic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umphrey vs. Nixon vs. Wall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livingroomcandidate.org/commercials/19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4" descr="HubertHumphrey"/>
          <p:cNvPicPr/>
          <p:nvPr/>
        </p:nvPicPr>
        <p:blipFill>
          <a:blip r:embed="rId1"/>
          <a:stretch/>
        </p:blipFill>
        <p:spPr>
          <a:xfrm>
            <a:off x="671400" y="2743200"/>
            <a:ext cx="2957760" cy="3124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Nixonblack&amp;white"/>
          <p:cNvPicPr/>
          <p:nvPr/>
        </p:nvPicPr>
        <p:blipFill>
          <a:blip r:embed="rId2"/>
          <a:stretch/>
        </p:blipFill>
        <p:spPr>
          <a:xfrm>
            <a:off x="3629160" y="2743200"/>
            <a:ext cx="2390760" cy="30621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georgewallace"/>
          <p:cNvPicPr/>
          <p:nvPr/>
        </p:nvPicPr>
        <p:blipFill>
          <a:blip r:embed="rId3"/>
          <a:stretch/>
        </p:blipFill>
        <p:spPr>
          <a:xfrm>
            <a:off x="6095880" y="2973240"/>
            <a:ext cx="21337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Bombing Hal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Prague Spring – Soviets Invade Czechoslovakia – Cancellation of Summit – the Cold War is still t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Johnson Halts the Bombing of North Vietnam before the electio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Nixon – secret contacts with Thieu – warns him about the negoti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Saigon won’t negotiate y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) Nixon w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) Stalemated War, Stalemated Peace Tal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ectoral Map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7" name="Picture 4" descr="election1968"/>
          <p:cNvPicPr/>
          <p:nvPr/>
        </p:nvPicPr>
        <p:blipFill>
          <a:blip r:embed="rId1"/>
          <a:stretch/>
        </p:blipFill>
        <p:spPr>
          <a:xfrm>
            <a:off x="685800" y="1600200"/>
            <a:ext cx="77709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Tet Offensive: The Eddie Adams Pictur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568" name="Picture 3" descr="Vietnampictures"/>
          <p:cNvPicPr/>
          <p:nvPr/>
        </p:nvPicPr>
        <p:blipFill>
          <a:blip r:embed="rId1"/>
          <a:stretch/>
        </p:blipFill>
        <p:spPr>
          <a:xfrm>
            <a:off x="1222200" y="1600200"/>
            <a:ext cx="6697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ixon “Bring us together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0" name="Picture 4" descr="nixonwins1968_nyu_2050081722-20216"/>
          <p:cNvPicPr/>
          <p:nvPr/>
        </p:nvPicPr>
        <p:blipFill>
          <a:blip r:embed="rId1"/>
          <a:stretch/>
        </p:blipFill>
        <p:spPr>
          <a:xfrm>
            <a:off x="2133720" y="1143000"/>
            <a:ext cx="5072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ackground to Tet – January 196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North Korean seizure of the USS Pueblo – concern about another front in Asia – (North Koreans had attempted assassination of South Korean leader the previous day) – crew released in December, only Navy ship still h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Siege at Khe Sanh – begins January 21 (will last until April 8) – fears of another Dien Binh P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ginning of the Offens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.) Struck 36 of 44 provincial capitals, five of six major cities, 64 district capitals, and 50 hamle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.) Raid on the US Embassy – got into the compound – lasted about six hours - all 19 killed or severely woun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.) Also hit Saigon’s airport, presidential palace, and military headquart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.) Most successful attack in Hue – held the city for a mon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tage from Tet Offensive – CBS Ne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http://www.youtube.com/watch?v=tm3WimttZjc&amp;feature=relat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ilitary Assessment of Tet – a defeat for the Communist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No collapse of Saigon – South Vietnamese did not welcome them as liber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Losses – may have been as high as 40,000 – the Viet Cong took the brunt of the losses – Hanoi expected to do be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or the U.S. – A “Costly Victory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US losses more than 1100, ARVN 23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More than 12, 500 civilians ki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Devastating Effect on American public opinion – 78 percent of Americans said no progress was being made; 26 percent approved Johnson’s handling of the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Increase in the credibility gap – Tet seemed to show LBJ’s progress offensive was an exaggeration, to some a lie – Kennedy spe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t’s Impact on Washingt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hock at the White House – divided the staff, Rostow still hawkish, McPherson and others more dov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Military – wanted Johnson to take important decisions – perception of being stretched thin – wanted a reserve call-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Westmoreland – wanted to expand the war into Laos and Cambodia, southern North Viet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ietna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3" name="Picture 5" descr="Vietnam"/>
          <p:cNvPicPr/>
          <p:nvPr/>
        </p:nvPicPr>
        <p:blipFill>
          <a:blip r:embed="rId1"/>
          <a:stretch/>
        </p:blipFill>
        <p:spPr>
          <a:xfrm>
            <a:off x="2590920" y="1447920"/>
            <a:ext cx="31892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9:33:20Z</dcterms:created>
  <dc:creator>Tom Schwartz</dc:creator>
  <dc:description/>
  <dc:language>en-US</dc:language>
  <cp:lastModifiedBy>mackeyca</cp:lastModifiedBy>
  <dcterms:modified xsi:type="dcterms:W3CDTF">2013-02-19T14:24:02Z</dcterms:modified>
  <cp:revision>10</cp:revision>
  <dc:subject/>
  <dc:title>The Tet Offensive, 1968</dc:title>
</cp:coreProperties>
</file>