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593D-4C36-48E5-B249-21B79921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817-5E12-4BFA-A24A-F1EF3D56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81174-8987-4F27-84C8-A909FD86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D9D7F-5480-4CD2-A6DA-AA0042E6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931F7-13A4-444F-9383-50B02764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EA186-40C4-4D33-97B5-1D6FDE45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DABAD-A187-471C-8CF9-53B52AA7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78CDC-407C-4899-B493-B5AAF8B7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45A3A-6A72-48F2-90B6-AEE39976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71E99-95BF-4A34-BCE4-B16B897E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4B2A5-9B7F-4AE5-9770-9285BCC8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2C8E7-CC8C-4FC8-A377-D2B38D0E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3C5-C0DA-4F96-9E9D-9C69692E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EEEA5-DF26-4A6E-85E3-AC56FD0C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9C3C5-84DF-43B7-98FE-D3A2BF3E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74835-242C-446E-B6B0-EC7204F6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AAF60-5C74-4683-9C7C-CE21E0FC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3F416-A865-4C1C-BF25-2451750B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7C7CC-7629-425D-BC9D-BCBE2BB3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8FA5B-CCD3-44BF-8FD2-29CC3078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6BFEC-ED74-4A11-B056-B3A06364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F699B-27C1-40B2-96CF-20014005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55306-6F70-4EE9-99B8-CE2F2F17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0EB-F303-4564-8A19-987076CD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B6B56-8171-41E1-B8F3-61808406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41A6-5182-4F4C-A21B-A7B4173E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1B48-DAA6-4B44-A2A2-4379ED67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23EE-EA43-4A85-A98A-8D2FD69E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FFEB-0200-4974-ABF9-FA1E7997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DDF9-C05D-49C8-A19E-360B137C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6293-7E75-41C1-8114-13BBDA9C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1C6F-7310-4573-B7D0-39804044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F10-D0BA-4550-8AE6-2166127D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E065-B646-484A-8B2B-D1B05097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8BAC-7235-4DF0-8BB1-7D015D29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C340-FFF0-4999-9788-59D17935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5056-53B6-4CE4-A556-30C2588C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1EA2-1281-43B1-B878-78A2D73C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0546F-B0F9-4E4A-9C39-09CE8325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5564F-343D-4ED9-9A04-0BC19D7D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6C256-793C-4081-8913-C86FA125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AF37A-AA1E-4F05-AEAC-E43763FB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F49C9-E5BF-49C0-AD31-CD4FCDF1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18BB-0FDF-4FA5-BAB6-EBC6000B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29529-10DF-4E00-B430-62AA9E10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A00BB-6873-4564-B3BE-C7D92387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A6ADA-AA67-4589-AB73-0529C624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50728-1A4E-4543-9BF5-DF9E1235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90B4F-3EE4-4239-8FF2-CC0C7A86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7AC7E-CB5B-4EAF-8B9E-23B33E7A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699F4-BBEA-4B6C-A3F3-6209AD7E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CD358-24C4-493A-88AF-790DE4B4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8F141-3583-41B6-B0FA-88D64950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670C8-34FE-4E60-A679-E64B3EB8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CDCF-F491-4163-893B-931B5C63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AA8B9-42B1-4DE4-9FAF-23DF25D5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26C80-A2D9-4A26-B69A-DDDF27F1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C0E93-5F93-4ABF-8801-F1A64969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79DA3-498D-410B-8478-F334A8CE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71A3F-5BDF-4B82-A602-B06D8EDB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C917D-5294-4E57-BEDA-F84A8362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7F9BE-BFA1-4D4F-94DC-9789AB18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E4E57-EB59-443C-AB00-8FEC897A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C0AFA-7DF5-45A3-80E3-E5340FF2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2BD3CA-642E-4DB1-8092-121156EC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501-67CC-4876-9F40-5A1C8047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ABC6E1-4B99-42DC-BE1F-BA872636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876588-93C8-460F-91DC-701885CE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6A5CA9-D26C-4D0D-A26C-D122DF5A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0F136-D27A-4C1A-96B1-6E18529D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44F886-BB16-4B93-B621-805F9756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2370AE-630D-4F57-BB3D-9872A360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86DE85-52DC-4821-89E6-28AB504C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C3722-DEC4-4235-81F1-1DC4D086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158E5-4163-4A7F-AF4F-641579C9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04DB15-5E6A-4E2D-BAF5-D5764A49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7B1-4BFE-406C-BF1C-5567BD83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355130-37C0-4AF2-AC54-18A5E5C1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3C29D-95E5-4ABF-B7DA-DDD110CA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B9A92-4D71-4733-96D9-04302CE0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D65BE-5A93-4F1E-8FEB-B97D42D8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78C1F-56BC-46B7-89B6-C160744B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380F5-4F06-48C0-A0D0-113798B6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225C5-3FA8-456A-BD9B-73C8EEA9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9E745-31B4-494B-9D5C-179204BB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3CD2A-D3AC-4F5F-8D21-6B6AF690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CACAC-9402-477E-8816-5DA87361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D56-6380-488B-93B0-AC47880B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F7B01-48A0-40D5-9FC2-3F399A1A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10576-1176-4E44-8645-F800BA87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C5733-E4A7-467A-8260-7264617A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42110-E562-4F56-A6E6-3CF38D69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F7CDE-05CE-473D-9B1E-748E1645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BA602-3057-4A9E-BB9F-763041D1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EE425-5685-4175-8BD1-1380FC7E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9CD51-A469-405C-8DAF-B1DF9A49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FBE48-2FFE-4385-A800-32172DCE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F866E-5414-4BE3-A406-A86E177C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DE6E-177F-4AB1-9A2B-9498B0A8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203A3-57A6-406E-9F9B-A27EC99B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21CA4-2BDA-4C68-A66A-F89637A9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5B64E-4A91-407C-9F15-89354F9C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9D2AB-841B-4440-8674-B191C6EA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325E0-4DFC-4805-9037-E754661E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EAEDB-17C9-47AD-9166-FC76F039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B149D-A310-45D1-901E-3B227622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E957A-E7D8-45A7-8E8B-3C848E34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58270-1E54-4883-A6AC-E4C5EBF0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439EC-2012-4016-A5BA-969B22FE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94C1-2FBB-42B2-9CBE-25F7B902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23472-A838-4427-A916-363260A8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F1AC5-6986-49C7-B71C-9E1DF01B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C770E-6EA2-48E7-8A18-CD49B251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E436C-D4D3-48A9-911B-03E8846E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95287-B657-42F2-90A5-0CCE6D05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EC563-8BC2-45FC-AD38-10BEE9A7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C08EF-E5EB-411B-8D0A-356EF7B3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2A657-3DFA-41B4-88AA-CC628010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89B5A-0EB3-46B1-965D-102370C2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448CE-12B3-494C-97C2-89D4B7C3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4464-09BD-447F-B862-B9B52E769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18AC-034E-44E3-BD5D-018651544A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0644-21E1-4A4D-9948-5851016AB0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2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787D-176B-4FB0-AA26-274A9659F9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66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8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69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3F12-065E-419E-8FBB-D70D077EEA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2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66B0-9A4E-4CA4-BBA7-D5A24E177C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B349-1565-401C-9D09-30F5FBFAE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5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AFA7-7832-4CD9-821F-9C382C10B5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0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2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3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4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9E3D-B983-4AD5-B02C-184DF5214DD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48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49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1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4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55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6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F210-BDB8-4CE7-BD2A-9D6CF57E07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The Tet Offensive, 1968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Vietnam War’s Turning Poi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mpact of Te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Military Request for 206,000 more men – half to Vietnam, half to reserve – effort to persuade the president but was more pessimistic in order to persu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) Defense Secretary Clark Clifford – ordered a full scale review – influenced by civilian strategists in the Pentagon – pushed for a change in strategy, de-escalation, getting Saigon to do m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sideration of a bombing hal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Secretary of State Dean Rusk – now pushed for a bombing halt – thought Hanoi damaged by Tet – chance for peace tal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Johnson – thought US might now be able to act from streng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Uncertainty at the White House reflected in the public m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tmosphere of Gloom”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Robert Kennedy’s spee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Media reporting on the war – image of chaos and def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Walter Cronkite -YouTube - Walter Cronkite Remembers His Tet Offensive Edito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NYTimes story – March 10, 1968 – Westmoreland’s request for 206,000 – produced an upro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ntiwar momentu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Congress – 139 House members call for a review of poli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March 12, 1968 - New Hampshire primary – McCarthy almost upsets John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March 16, 1968 – Robert Kennedy enters the race YouTube - Robert Kennedy for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) “Gold Crisis” intensifies fears of esca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known at the time – March 16, 1968, the My Lai massac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) Johnson meets with the Wise Men – they urge de-esca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Johnson’s withdrawa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son proposes a bombing halt north of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rall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Tube - Lyndon Johnson - Remarks on Decision to not seek Ree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Tube - Lyndon B. Johnson I Will Not Run Add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 Vietnam agrees to Peace talks in Paris – immediate problem, Saigon and the N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1968 – after Tet in Vietna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Military action in Vietnam remains stepped up – offensives in May and Augu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US accelerates Pacification Program and Chieu Hoi program – amnesty to Viet C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Phoenix Program developed by 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Expansion in size of South Vietnamese A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1968 – Violence in Americ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Assassination of Martin Luther King in Memphis, April 19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Assassination of Robert Kennedy in June YouTube - Robert Kennedy's assas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Chicago Democratic convention – riots and protests YouTube - 1968 DNC: Democratic nightmare in Chic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umphrey vs. Nixon vs. Walla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livingroomcandidate.org/commercials/19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Picture 4" descr="HubertHumphrey"/>
          <p:cNvPicPr/>
          <p:nvPr/>
        </p:nvPicPr>
        <p:blipFill>
          <a:blip r:embed="rId1"/>
          <a:stretch/>
        </p:blipFill>
        <p:spPr>
          <a:xfrm>
            <a:off x="671400" y="2743200"/>
            <a:ext cx="2957760" cy="3124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Nixonblack&amp;white"/>
          <p:cNvPicPr/>
          <p:nvPr/>
        </p:nvPicPr>
        <p:blipFill>
          <a:blip r:embed="rId2"/>
          <a:stretch/>
        </p:blipFill>
        <p:spPr>
          <a:xfrm>
            <a:off x="3629160" y="2743200"/>
            <a:ext cx="2390760" cy="30621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georgewallace"/>
          <p:cNvPicPr/>
          <p:nvPr/>
        </p:nvPicPr>
        <p:blipFill>
          <a:blip r:embed="rId3"/>
          <a:stretch/>
        </p:blipFill>
        <p:spPr>
          <a:xfrm>
            <a:off x="6095880" y="2973240"/>
            <a:ext cx="213372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Bombing Hal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Prague Spring – Soviets Invade Czechoslovakia – Cancellation of Summit – the Cold War is still t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Johnson Halts the Bombing of North Vietnam before the electio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Nixon – secret contacts with Thieu – warns him about the negoti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) Saigon won’t negotiate y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) Nixon w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) Stalemated War, Stalemated Peace Tal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ectoral Map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7" name="Picture 4" descr="election1968"/>
          <p:cNvPicPr/>
          <p:nvPr/>
        </p:nvPicPr>
        <p:blipFill>
          <a:blip r:embed="rId1"/>
          <a:stretch/>
        </p:blipFill>
        <p:spPr>
          <a:xfrm>
            <a:off x="685800" y="1600200"/>
            <a:ext cx="77709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Tet Offensive: The Eddie Adams Pictur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568" name="Picture 3" descr="Vietnampictures"/>
          <p:cNvPicPr/>
          <p:nvPr/>
        </p:nvPicPr>
        <p:blipFill>
          <a:blip r:embed="rId1"/>
          <a:stretch/>
        </p:blipFill>
        <p:spPr>
          <a:xfrm>
            <a:off x="1222200" y="1600200"/>
            <a:ext cx="6697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ixon “Bring us together”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0" name="Picture 4" descr="nixonwins1968_nyu_2050081722-20216"/>
          <p:cNvPicPr/>
          <p:nvPr/>
        </p:nvPicPr>
        <p:blipFill>
          <a:blip r:embed="rId1"/>
          <a:stretch/>
        </p:blipFill>
        <p:spPr>
          <a:xfrm>
            <a:off x="2133720" y="1143000"/>
            <a:ext cx="5072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ackground to Tet – January 196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North Korean seizure of the USS Pueblo – concern about another front in Asia – (North Koreans had attempted assassination of South Korean leader the previous day) – crew released in December, only Navy ship still h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Siege at Khe Sanh – begins January 21 (will last until April 8) – fears of another Dien Binh P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ginning of the Offens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.) Struck 36 of 44 provincial capitals, five of six major cities, 64 district capitals, and 50 hamle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.) Raid on the US Embassy – got into the compound – lasted about six hours - all 19 killed or severely woun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.) Also hit Saigon’s airport, presidential palace, and military headquart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4.) Most successful attack in Hue – held the city for a mont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otage from Tet Offensive – CBS Ne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http://www.youtube.com/watch?v=tm3WimttZjc&amp;feature=relat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ilitary Assessment of Tet – a defeat for the Communist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No collapse of Saigon – South Vietnamese did not welcome them as liber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Losses – may have been as high as 40,000 – the Viet Cong took the brunt of the losses – Hanoi expected to do be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or the U.S. – A “Costly Victory”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US losses more than 1100, ARVN 23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More than 12, 500 civilians ki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Devastating Effect on American public opinion – 78 percent of Americans said no progress was being made; 26 percent approved Johnson’s handling of the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) Increase in the credibility gap – Tet seemed to show LBJ’s progress offensive was an exaggeration, to some a lie – Kennedy spe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et’s Impact on Washingt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Shock at the White House – divided the staff, Rostow still hawkish, McPherson and others more dov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Military – wanted Johnson to take important decisions – perception of being stretched thin – wanted a reserve call-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Westmoreland – wanted to expand the war into Laos and Cambodia, southern North Viet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ietna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3" name="Picture 5" descr="Vietnam"/>
          <p:cNvPicPr/>
          <p:nvPr/>
        </p:nvPicPr>
        <p:blipFill>
          <a:blip r:embed="rId1"/>
          <a:stretch/>
        </p:blipFill>
        <p:spPr>
          <a:xfrm>
            <a:off x="2590920" y="1447920"/>
            <a:ext cx="31892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9:33:20Z</dcterms:created>
  <dc:creator>Tom Schwartz</dc:creator>
  <dc:description/>
  <dc:language>en-US</dc:language>
  <cp:lastModifiedBy>mackeyca</cp:lastModifiedBy>
  <dcterms:modified xsi:type="dcterms:W3CDTF">2013-02-19T14:24:02Z</dcterms:modified>
  <cp:revision>10</cp:revision>
  <dc:subject/>
  <dc:title>The Tet Offensive, 1968</dc:title>
</cp:coreProperties>
</file>