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1AF-3377-4DCC-8697-0CEA4D58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F54-997F-4599-99E3-C4EDF2E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DAB0A-E72C-4318-8BB9-093A7427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819C3-C5FC-48E2-92CE-C5E80F63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5EB7D-FEC5-4CB8-881E-A3BA8EB9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23412-9726-4412-A785-DB62F4B5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8DD2F-3D6E-430F-8B9E-B62A7D2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4CC77-C761-469C-AF3D-778F63A8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DBE2B-0B83-461D-8B64-6DE1B6EA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FE984-C5B9-43E6-B08A-B160521F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F7814-51DB-49B1-B0F1-605937DD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8578F-BB5B-499C-956B-733A3053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80F-BC62-4229-AFAC-5BF2C7BB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A00B3-2F8B-4C9A-916B-3C2FC163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B7932-102D-4883-82AC-944F19CF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8CCE2-39AA-4411-992D-3156C149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DA4C2-0389-46CB-BDD5-877DE56D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B8592-367A-44C3-86BF-9FF04B9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574B9-9FCA-4334-A9CE-C394AC65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3DC59-066C-496F-9DD7-8C066D2D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02480-88B1-4F3B-88CE-1E20C806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612B6-A949-4554-B17A-E6F3230B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D272C-4DB8-47A5-AF88-178802C2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A85-D1EA-456C-B4A4-58A34A61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1AE04-0184-4A99-8B27-FBD94A14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DED7-7DF1-4154-9E95-7939B8C0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09F7-6FB0-41E0-A762-B7E60FC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9C68-82BD-48E2-9D47-9B86435C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04DC-95CE-4F51-B03E-90FFF69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299B-BC7F-4AF1-B08E-C7B53228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4A46-C230-4A58-B6CF-DB33E39B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567F-5DBF-4BBE-8E55-3FFB98E7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813-9BA3-442B-9225-1905EF90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7197-657A-4813-93CD-CBD9119F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4817-2F5D-4575-879E-642DBD9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CD17-B4CF-4390-B266-C6BE557B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C4CE-410E-4D60-8B5C-A8612040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9516-BA3A-45A3-AD64-495ABA12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54EC-8336-4021-A2A1-1EFEE2B9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244E-C484-4F63-B497-01CB0686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8933-79A7-4DDE-88B9-5787B4E6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C634-FAFF-441F-9356-493DDB42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A5EA-C8A6-4DE6-9CEE-6DC5F5C8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563-68C3-4553-9EF7-E803C167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E545-560F-45AB-9DF5-A21FCA3C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B6A5-54D2-44F3-A379-673D86CE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D46A-0430-4CEB-9DCD-5159FB44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5174-061F-407D-8683-7DD947BF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CBA0-9705-4B5D-B26F-DE043095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9670-8A6D-4759-A7CE-B84C3BF7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A3DE-3878-408C-821A-262DB74B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468F-D66B-4D3B-A263-783452E3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D945A-DF96-43FC-B501-681AEDF8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67767-2059-4AA2-8675-8B4E7334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1A0-EA66-4D27-A75B-93BF6D41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6A82-E55A-4123-86F2-8F056295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0531-A017-49AA-9EDE-9D559EEE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1327A-FE59-41D5-9A74-F2110E8D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69349-93D5-498D-82BA-1978D20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16E64-8820-4D1F-8623-2F681EB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6053-FB70-4503-9CDD-EFF2E029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6631-ACE8-416C-A4E5-A6FCA884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5D6F-7CA0-45EE-AC03-7423DBCF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9D6D5-D67F-4243-A874-0DD671D9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EB5BD-EEB3-4F0F-B822-45CA7B23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B0D-CFC0-438D-A66C-4D2FF2F4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11D26-C23C-4BEB-AE53-E4AB5942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A0AA2-665A-4548-A513-EED005E8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ADF78-BFD5-443C-A6A3-358F9502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FFFA8-C895-49DE-933D-E719153E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34228-19FB-46AE-90B0-4E0EA342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9385A-8CFA-44B2-9EA5-A6D4429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6D15D-7A42-4C62-94BB-4CB819D2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9AFCD-5A77-4BF9-9ED1-52810786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7824E-B68F-45C5-8917-803710D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6419C-F8A5-4D8C-9FB2-91743D17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3D0-B72F-4B01-B0EC-7B680CDD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D20C9-E015-4458-A4FE-2FD675C1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82749-23C1-4535-8295-FA936121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CD4C-55EE-4D57-B192-3AA97977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4ABF-CA8E-4426-964C-BA2E5502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A9432-18E3-4D18-9D8F-0157CB6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3F7B2-7D16-4EFC-B488-9133CD93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D6F9F-2281-4AAA-B88F-564BC4FD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1A0CE-39FC-47D1-942C-6749F9D4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04DD-9F27-4281-9AEA-7B347F7C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ABD4-80B0-4CD9-9CC1-054100B1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847-D38F-4047-9AD2-88AAE98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5C6E-AB2F-4B7C-A90F-7A4DDC33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C4E22-CEA3-4A21-96C6-8464AE9A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763F-FD66-47C5-9756-218393BC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081D3-88AB-4356-8B7F-0E302E75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F01E2-C2CE-42D4-A582-53E9879A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0BE4D-6B31-403B-9927-4D39E4F3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A2434-9B8A-4C7E-8D19-E1390E2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8BEF1-2695-4662-A8C7-B59E11C1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9FF63-71D3-448E-AA94-BA45F468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0BF12-2264-422A-87CF-F573029E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B41-DDF1-481C-9BB5-FD6F201A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AE261-14CE-4E77-B28D-9BEA273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CB130-D8A8-4BBC-939D-D42A9D1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F061E-BBE0-494B-8CBE-A26CF806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D3D09-26DD-42A3-8297-5705690B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C0A6-1EEA-4A8A-B6D2-25C67360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4F729-F8B2-4B18-BAA9-2F6D5177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D077-53EA-49BA-92AC-140AB7EA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302C7-2B50-4F18-B9D8-C9CD821D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598A4-C4DB-4464-A0C5-BAF9A702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65FD0-0FDF-4790-BD2C-6DBFAC37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FC4-8F8D-45DB-ABAB-F813AEC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2E89A-24CB-413B-AF9A-BDC1F235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0C848-6BDF-433E-80F0-99FF0A9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6066B-C91C-4B2A-9FD7-5E1F2774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BD2BA-596A-4508-B663-31CEEE6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EC36-4A35-4217-A84A-A9C1C007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517CB-E205-4937-A9B8-523AE55E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AC334-78E5-4F85-AF3C-265AAFD1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1AACC-B6AC-440E-9EF0-A82AFCEE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190A5-9830-4FEF-B9E9-3CCBA06C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69EA2-0D66-4020-8DB7-0759F9DF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CF63-D3C4-4E45-B2DC-71980114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2CC-F9EE-42F6-954D-4BF5CB9736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3A1D-8681-4FDD-94D4-DA55D18C45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335-E70A-4AA9-909A-DBBD52A84A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1449-407A-4F75-A80C-9683DE4D84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9DC0-E71E-49F6-BF02-7186767690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A90C-6726-40C3-9185-11B7F44E0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5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AE19-951D-4EE4-AA7C-D3BBD634B9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0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7AE2-2255-43C2-8A3C-029F9E80AD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4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4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5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A22F-7CCD-49BB-99CA-EA92EB050F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The Tet Offensive, 196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ietnam War’s Turning Poi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mpact of Te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Military Request for 206,000 more men – half to Vietnam, half to reserve – effort to persuade the president but was more pessimistic in order 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) Defense Secretary Clark Clifford – ordered a full scale review – influenced by civilian strategists in the Pentagon – pushed for a change in strategy, de-escalation, getting Saigon to do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sideration of a bombing hal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ecretary of State Dean Rusk – now pushed for a bombing halt – thought Hanoi damaged by Tet – chance for peace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Johnson – thought US might now be able to act from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Uncertainty at the White House reflected in the public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tmosphere of Gloom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obert Kennedy’s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edia reporting on the war – image of chaos and def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alter Cronkite -YouTube - Walter Cronkite Remembers His Tet Offensive Edit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NYTimes story – March 10, 1968 – Westmoreland’s request for 206,000 – produced an upro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tiwar moment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Congress – 139 House members call for a review of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arch 12, 1968 - New Hampshire primary – McCarthy almost upsets Joh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March 16, 1968 – Robert Kennedy enters the race YouTube - Robert Kennedy for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“Gold Crisis” intensifies fears of 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at the time – March 16, 1968, the My Lai massac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Johnson meets with the Wise Men – they urge de-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ohnson’s withdraw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proposes a bombing halt north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ll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Johnson - Remarks on Decision to not seek Re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B. Johnson I Will Not Run Add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Vietnam agrees to Peace talks in Paris – immediate problem, Saigon and the N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after Tet in 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Military action in Vietnam remains stepped up – offensives in May and Aug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US accelerates Pacification Program and Chieu Hoi program – amnesty to Viet C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Phoenix Program developed by 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Expansion in size of South Vietnamese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Violence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Assassination of Martin Luther King in Memphis, April 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Assassination of Robert Kennedy in June YouTube - Robert Kennedy's assas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Chicago Democratic convention – riots and protests YouTube - 1968 DNC: Democratic nightmare in Chic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umphrey vs. Nixon vs. Wall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ingroomcandidate.org/commercials/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4" descr="HubertHumphrey"/>
          <p:cNvPicPr/>
          <p:nvPr/>
        </p:nvPicPr>
        <p:blipFill>
          <a:blip r:embed="rId1"/>
          <a:stretch/>
        </p:blipFill>
        <p:spPr>
          <a:xfrm>
            <a:off x="671400" y="2743200"/>
            <a:ext cx="2957760" cy="3124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Nixonblack&amp;white"/>
          <p:cNvPicPr/>
          <p:nvPr/>
        </p:nvPicPr>
        <p:blipFill>
          <a:blip r:embed="rId2"/>
          <a:stretch/>
        </p:blipFill>
        <p:spPr>
          <a:xfrm>
            <a:off x="3629160" y="2743200"/>
            <a:ext cx="2390760" cy="30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georgewallace"/>
          <p:cNvPicPr/>
          <p:nvPr/>
        </p:nvPicPr>
        <p:blipFill>
          <a:blip r:embed="rId3"/>
          <a:stretch/>
        </p:blipFill>
        <p:spPr>
          <a:xfrm>
            <a:off x="6095880" y="2973240"/>
            <a:ext cx="21337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Bombing Hal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rague Spring – Soviets Invade Czechoslovakia – Cancellation of Summit – the Cold War is still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ohnson Halts the Bombing of North Vietnam before the ele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Nixon – secret contacts with Thieu – warns him about the negoti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Saigon won’t negotiate y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Nixon w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) Stalemated War, Stalemated Peace Tal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ectoral Map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lection1968"/>
          <p:cNvPicPr/>
          <p:nvPr/>
        </p:nvPicPr>
        <p:blipFill>
          <a:blip r:embed="rId1"/>
          <a:stretch/>
        </p:blipFill>
        <p:spPr>
          <a:xfrm>
            <a:off x="685800" y="1600200"/>
            <a:ext cx="7770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Tet Offensive: The Eddie Adams Pictu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68" name="Picture 3" descr="Vietnampictures"/>
          <p:cNvPicPr/>
          <p:nvPr/>
        </p:nvPicPr>
        <p:blipFill>
          <a:blip r:embed="rId1"/>
          <a:stretch/>
        </p:blipFill>
        <p:spPr>
          <a:xfrm>
            <a:off x="122220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ixon “Bring us together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nixonwins1968_nyu_2050081722-20216"/>
          <p:cNvPicPr/>
          <p:nvPr/>
        </p:nvPicPr>
        <p:blipFill>
          <a:blip r:embed="rId1"/>
          <a:stretch/>
        </p:blipFill>
        <p:spPr>
          <a:xfrm>
            <a:off x="2133720" y="1143000"/>
            <a:ext cx="5072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ckground to Tet – January 196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rth Korean seizure of the USS Pueblo – concern about another front in Asia – (North Koreans had attempted assassination of South Korean leader the previous day) – crew released in December, only Navy ship still h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Siege at Khe Sanh – begins January 21 (will last until April 8) – fears of another Dien Binh P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ginning of the Offens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.) Struck 36 of 44 provincial capitals, five of six major cities, 64 district capitals, and 50 hamle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.) Raid on the US Embassy – got into the compound – lasted about six hours - all 19 killed or severely woun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.) Also hit Saigon’s airport, presidential palace, and military headquar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.) Most successful attack in Hue – held the city for a mon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tage from Tet Offensive – CBS Ne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http://www.youtube.com/watch?v=tm3WimttZjc&amp;feature=rela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litary Assessment of Tet – a defeat for the Communist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 collapse of Saigon – South Vietnamese did not welcome them as lib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Losses – may have been as high as 40,000 – the Viet Cong took the brunt of the losses – Hanoi expected to do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or the U.S. – A “Costly Victory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US losses more than 1100, ARVN 2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ore than 12, 500 civilians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Devastating Effect on American public opinion – 78 percent of Americans said no progress was being made; 26 percent approved Johnson’s handling of the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Increase in the credibility gap – Tet seemed to show LBJ’s progress offensive was an exaggeration, to some a lie – Kennedy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t’s Impact on Washing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hock at the White House – divided the staff, Rostow still hawkish, McPherson and others more do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ilitary – wanted Johnson to take important decisions – perception of being stretched thin – wanted a reserve call-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estmoreland – wanted to expand the war into Laos and Cambodia, southern North Viet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5" descr="Vietnam"/>
          <p:cNvPicPr/>
          <p:nvPr/>
        </p:nvPicPr>
        <p:blipFill>
          <a:blip r:embed="rId1"/>
          <a:stretch/>
        </p:blipFill>
        <p:spPr>
          <a:xfrm>
            <a:off x="2590920" y="1447920"/>
            <a:ext cx="3189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9:33:20Z</dcterms:created>
  <dc:creator>Tom Schwartz</dc:creator>
  <dc:description/>
  <dc:language>en-US</dc:language>
  <cp:lastModifiedBy>mackeyca</cp:lastModifiedBy>
  <dcterms:modified xsi:type="dcterms:W3CDTF">2013-02-19T14:24:02Z</dcterms:modified>
  <cp:revision>10</cp:revision>
  <dc:subject/>
  <dc:title>The Tet Offensive, 1968</dc:title>
</cp:coreProperties>
</file>